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drumroll.wav" ContentType="audio/x-wav"/>
  <Override PartName="/ppt/media/image3.jpeg" ContentType="image/jpeg"/>
  <Override PartName="/ppt/media/image15.png" ContentType="image/png"/>
  <Override PartName="/ppt/media/image24.jpeg" ContentType="image/jpeg"/>
  <Override PartName="/ppt/media/image5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E679-AA18-4E1E-8938-E4445F988E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C768-AAD0-4214-AEF7-EF3B08E5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A5E2-2861-448A-9D73-717AF523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B0FB-161C-4B89-A46C-1E94A0D48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33A3-543E-4D51-A6A1-C82439A4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0BBB-FF3B-4C42-B22F-3D958B14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0A11-3351-485F-B09C-1EEA0ED0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28ED-8186-4A94-8C94-6E9B9480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ADA5-B47A-4D69-97B2-9F0FF3EC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F49B-0EBC-4595-847D-B57AF53F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D715-6E56-4869-897D-BB8D097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914B-93B6-4CB9-BB19-548A3DAD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68560" indent="-711360">
              <a:spcBef>
                <a:spcPts val="799"/>
              </a:spcBef>
              <a:buClr>
                <a:srgbClr val="ffff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523880" indent="-609480">
              <a:spcBef>
                <a:spcPts val="799"/>
              </a:spcBef>
              <a:buClr>
                <a:srgbClr val="ffff00"/>
              </a:buClr>
              <a:buFont typeface="Century School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879560" indent="-507960">
              <a:spcBef>
                <a:spcPts val="799"/>
              </a:spcBef>
              <a:buClr>
                <a:srgbClr val="ffff00"/>
              </a:buClr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36760" indent="-507960">
              <a:spcBef>
                <a:spcPts val="799"/>
              </a:spcBef>
              <a:buClr>
                <a:srgbClr val="ffff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A1B8-4779-480B-9BDF-38BF0FB1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MMAG00564_0000[1]"/>
          <p:cNvPicPr/>
          <p:nvPr/>
        </p:nvPicPr>
        <p:blipFill>
          <a:blip r:embed="rId2"/>
          <a:stretch/>
        </p:blipFill>
        <p:spPr>
          <a:xfrm>
            <a:off x="152280" y="618156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"/>
              </a:rPr>
              <a:t>The Atom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nit 4, Chapter 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" name="Picture 5" descr="Nuclear_Bombs"/>
          <p:cNvPicPr/>
          <p:nvPr/>
        </p:nvPicPr>
        <p:blipFill>
          <a:blip r:embed="rId2"/>
          <a:stretch/>
        </p:blipFill>
        <p:spPr>
          <a:xfrm>
            <a:off x="3048120" y="487692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atom-with-electrons"/>
          <p:cNvPicPr/>
          <p:nvPr/>
        </p:nvPicPr>
        <p:blipFill>
          <a:blip r:embed="rId3"/>
          <a:stretch/>
        </p:blipFill>
        <p:spPr>
          <a:xfrm>
            <a:off x="4572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stm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67360" y="3352680"/>
            <a:ext cx="2643120" cy="17971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9">
            <a:hlinkClick r:id="rId6"/>
          </p:cNvPr>
          <p:cNvSpPr/>
          <p:nvPr/>
        </p:nvSpPr>
        <p:spPr>
          <a:xfrm>
            <a:off x="6019920" y="4876920"/>
            <a:ext cx="251460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to see more pictures of the 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82320" y="30492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he Isotopes of Hydro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6"/>
          <p:cNvGrpSpPr/>
          <p:nvPr/>
        </p:nvGrpSpPr>
        <p:grpSpPr>
          <a:xfrm>
            <a:off x="1752480" y="1595520"/>
            <a:ext cx="5334120" cy="1166760"/>
            <a:chOff x="1752480" y="1595520"/>
            <a:chExt cx="5334120" cy="1166760"/>
          </a:xfrm>
        </p:grpSpPr>
        <p:grpSp>
          <p:nvGrpSpPr>
            <p:cNvPr id="132" name="Group 18"/>
            <p:cNvGrpSpPr/>
            <p:nvPr/>
          </p:nvGrpSpPr>
          <p:grpSpPr>
            <a:xfrm>
              <a:off x="1752480" y="1595520"/>
              <a:ext cx="1143000" cy="1143000"/>
              <a:chOff x="1752480" y="1595520"/>
              <a:chExt cx="1143000" cy="1143000"/>
            </a:xfrm>
          </p:grpSpPr>
          <p:sp>
            <p:nvSpPr>
              <p:cNvPr id="133" name="Rectangle 8"/>
              <p:cNvSpPr/>
              <p:nvPr/>
            </p:nvSpPr>
            <p:spPr>
              <a:xfrm>
                <a:off x="175248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9"/>
              <p:cNvSpPr/>
              <p:nvPr/>
            </p:nvSpPr>
            <p:spPr>
              <a:xfrm>
                <a:off x="175464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0"/>
              <p:cNvSpPr/>
              <p:nvPr/>
            </p:nvSpPr>
            <p:spPr>
              <a:xfrm>
                <a:off x="220536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19"/>
            <p:cNvGrpSpPr/>
            <p:nvPr/>
          </p:nvGrpSpPr>
          <p:grpSpPr>
            <a:xfrm>
              <a:off x="3886200" y="1595520"/>
              <a:ext cx="1143000" cy="1143000"/>
              <a:chOff x="3886200" y="1595520"/>
              <a:chExt cx="1143000" cy="1143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38862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2"/>
              <p:cNvSpPr/>
              <p:nvPr/>
            </p:nvSpPr>
            <p:spPr>
              <a:xfrm>
                <a:off x="38880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3"/>
              <p:cNvSpPr/>
              <p:nvPr/>
            </p:nvSpPr>
            <p:spPr>
              <a:xfrm>
                <a:off x="433908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5943600" y="1595520"/>
              <a:ext cx="1143000" cy="1166760"/>
              <a:chOff x="5943600" y="1595520"/>
              <a:chExt cx="1143000" cy="1166760"/>
            </a:xfrm>
          </p:grpSpPr>
          <p:sp>
            <p:nvSpPr>
              <p:cNvPr id="141" name="Rectangle 14"/>
              <p:cNvSpPr/>
              <p:nvPr/>
            </p:nvSpPr>
            <p:spPr>
              <a:xfrm>
                <a:off x="59436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5"/>
              <p:cNvSpPr/>
              <p:nvPr/>
            </p:nvSpPr>
            <p:spPr>
              <a:xfrm>
                <a:off x="59454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6396480" y="2394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 Box 21"/>
          <p:cNvSpPr/>
          <p:nvPr/>
        </p:nvSpPr>
        <p:spPr>
          <a:xfrm>
            <a:off x="1831320" y="1214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889080" y="1228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t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097680" y="12286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37160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505320" y="2890800"/>
            <a:ext cx="1218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563868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2043360" y="28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20530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05308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9600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418644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632016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4192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632016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419292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632016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436464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49836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0"/>
          <p:cNvGrpSpPr/>
          <p:nvPr/>
        </p:nvGrpSpPr>
        <p:grpSpPr>
          <a:xfrm>
            <a:off x="365040" y="4935600"/>
            <a:ext cx="2987640" cy="1260360"/>
            <a:chOff x="365040" y="4935600"/>
            <a:chExt cx="2987640" cy="1260360"/>
          </a:xfrm>
        </p:grpSpPr>
        <p:grpSp>
          <p:nvGrpSpPr>
            <p:cNvPr id="163" name="Group 17"/>
            <p:cNvGrpSpPr/>
            <p:nvPr/>
          </p:nvGrpSpPr>
          <p:grpSpPr>
            <a:xfrm>
              <a:off x="2209680" y="5029200"/>
              <a:ext cx="1143000" cy="1166760"/>
              <a:chOff x="2209680" y="5029200"/>
              <a:chExt cx="1143000" cy="1166760"/>
            </a:xfrm>
          </p:grpSpPr>
          <p:sp>
            <p:nvSpPr>
              <p:cNvPr id="164" name="Rectangle 5"/>
              <p:cNvSpPr/>
              <p:nvPr/>
            </p:nvSpPr>
            <p:spPr>
              <a:xfrm>
                <a:off x="2209680" y="502920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"/>
              <p:cNvSpPr/>
              <p:nvPr/>
            </p:nvSpPr>
            <p:spPr>
              <a:xfrm>
                <a:off x="2211480" y="5043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"/>
              <p:cNvSpPr/>
              <p:nvPr/>
            </p:nvSpPr>
            <p:spPr>
              <a:xfrm>
                <a:off x="2364480" y="58276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007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365040" y="4935600"/>
              <a:ext cx="16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is is how hydrogen looks on the periodic tabl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1"/>
          <p:cNvSpPr/>
          <p:nvPr/>
        </p:nvSpPr>
        <p:spPr>
          <a:xfrm>
            <a:off x="3581280" y="4876920"/>
            <a:ext cx="495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cc"/>
                </a:solidFill>
                <a:latin typeface="Arial"/>
              </a:rPr>
              <a:t>Which isotope is the most common hydrogen atom in the univer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5242680" y="5145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c31"/>
                </a:solidFill>
                <a:latin typeface="Arial"/>
              </a:rPr>
              <a:t>pro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Gather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on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723600" y="3433680"/>
            <a:ext cx="2298960" cy="368280"/>
            <a:chOff x="723600" y="3433680"/>
            <a:chExt cx="2298960" cy="368280"/>
          </a:xfrm>
        </p:grpSpPr>
        <p:sp>
          <p:nvSpPr>
            <p:cNvPr id="174" name="Text Box 12"/>
            <p:cNvSpPr/>
            <p:nvPr/>
          </p:nvSpPr>
          <p:spPr>
            <a:xfrm>
              <a:off x="723600" y="3433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tomic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413080" y="3625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5038560" y="4495680"/>
            <a:ext cx="2703600" cy="368280"/>
            <a:chOff x="5038560" y="4495680"/>
            <a:chExt cx="2703600" cy="368280"/>
          </a:xfrm>
        </p:grpSpPr>
        <p:sp>
          <p:nvSpPr>
            <p:cNvPr id="177" name="Text Box 14"/>
            <p:cNvSpPr/>
            <p:nvPr/>
          </p:nvSpPr>
          <p:spPr>
            <a:xfrm>
              <a:off x="6114960" y="4495680"/>
              <a:ext cx="162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H="1">
              <a:off x="5038560" y="4724280"/>
              <a:ext cx="1067040" cy="0"/>
            </a:xfrm>
            <a:prstGeom prst="line">
              <a:avLst/>
            </a:prstGeom>
            <a:ln w="1908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6"/>
          <p:cNvSpPr/>
          <p:nvPr/>
        </p:nvSpPr>
        <p:spPr>
          <a:xfrm>
            <a:off x="758160" y="518148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omic number-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762120" y="5580000"/>
            <a:ext cx="7467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s number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ass of the element as i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ccurs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609480" y="17208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Using the periodic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89160" y="2873520"/>
            <a:ext cx="19130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atomic mass shown as a dec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 flipH="1">
            <a:off x="667440" y="1528920"/>
            <a:ext cx="8052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n the average, the typical American family has 1.86 (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childr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HOW CAN YOU HAVE 7/8 OF A K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- So to say that Chlorine has an atomic mass of 35.453, doesn’t mean that it has 17 protons and 18.453 Neu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-33480" y="152280"/>
            <a:ext cx="44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why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1"/>
          <p:cNvGrpSpPr/>
          <p:nvPr/>
        </p:nvGrpSpPr>
        <p:grpSpPr>
          <a:xfrm>
            <a:off x="432000" y="709560"/>
            <a:ext cx="3867120" cy="4572000"/>
            <a:chOff x="432000" y="709560"/>
            <a:chExt cx="3867120" cy="4572000"/>
          </a:xfrm>
        </p:grpSpPr>
        <p:sp>
          <p:nvSpPr>
            <p:cNvPr id="187" name="Text Box 5"/>
            <p:cNvSpPr/>
            <p:nvPr/>
          </p:nvSpPr>
          <p:spPr>
            <a:xfrm>
              <a:off x="432000" y="374184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 of C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3537000" y="709560"/>
              <a:ext cx="7621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2"/>
          <p:cNvGrpSpPr/>
          <p:nvPr/>
        </p:nvGrpSpPr>
        <p:grpSpPr>
          <a:xfrm>
            <a:off x="3177720" y="4800600"/>
            <a:ext cx="1383120" cy="457200"/>
            <a:chOff x="3177720" y="4800600"/>
            <a:chExt cx="1383120" cy="457200"/>
          </a:xfrm>
        </p:grpSpPr>
        <p:sp>
          <p:nvSpPr>
            <p:cNvPr id="190" name="Line 7"/>
            <p:cNvSpPr/>
            <p:nvPr/>
          </p:nvSpPr>
          <p:spPr>
            <a:xfrm>
              <a:off x="3189240" y="525780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3177720" y="4800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3424320" y="538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52440" y="1414440"/>
            <a:ext cx="29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we look a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topes of Chlorin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219640" y="1069920"/>
            <a:ext cx="2251080" cy="825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35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=   3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92680" y="2811600"/>
            <a:ext cx="1913040" cy="2108160"/>
          </a:xfrm>
          <a:prstGeom prst="rect">
            <a:avLst/>
          </a:prstGeom>
          <a:ln w="0">
            <a:noFill/>
          </a:ln>
        </p:spPr>
      </p:pic>
      <p:sp>
        <p:nvSpPr>
          <p:cNvPr id="196" name="Curved Right Arrow 23"/>
          <p:cNvSpPr/>
          <p:nvPr/>
        </p:nvSpPr>
        <p:spPr>
          <a:xfrm>
            <a:off x="4302000" y="1319040"/>
            <a:ext cx="1784520" cy="3643560"/>
          </a:xfrm>
          <a:custGeom>
            <a:avLst/>
            <a:gdLst>
              <a:gd name="textAreaLeft" fmla="*/ 239040 w 1784520"/>
              <a:gd name="textAreaRight" fmla="*/ 1545480 w 1784520"/>
              <a:gd name="textAreaTop" fmla="*/ 743400 h 3643560"/>
              <a:gd name="textAreaBottom" fmla="*/ 267696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7" stAng="-5400000" swAng="-5400000"/>
                <a:lnTo>
                  <a:pt x="0" y="11462"/>
                </a:lnTo>
                <a:arcTo wR="21600" hR="8817" stAng="10800000" swAng="-3461015"/>
                <a:lnTo>
                  <a:pt x="16200" y="21320"/>
                </a:lnTo>
                <a:lnTo>
                  <a:pt x="21600" y="18956"/>
                </a:lnTo>
                <a:lnTo>
                  <a:pt x="16200" y="16031"/>
                </a:lnTo>
                <a:lnTo>
                  <a:pt x="16200" y="17353"/>
                </a:lnTo>
                <a:arcTo wR="21600" hR="8817" stAng="7338985" swAng="3248395"/>
                <a:lnTo>
                  <a:pt x="244" y="10139"/>
                </a:lnTo>
                <a:arcTo wR="21600" hR="8817" stAng="-10587380" swAng="5187380"/>
                <a:close/>
              </a:path>
              <a:path fill="darkenLess" w="21600" h="21600">
                <a:moveTo>
                  <a:pt x="21600" y="0"/>
                </a:moveTo>
                <a:arcTo wR="21600" hR="8817" stAng="-5400000" swAng="-5400000"/>
                <a:lnTo>
                  <a:pt x="0" y="8817"/>
                </a:lnTo>
                <a:arcTo wR="21600" hR="8817" stAng="10800000" swAng="-212620"/>
                <a:lnTo>
                  <a:pt x="244" y="10139"/>
                </a:lnTo>
                <a:arcTo wR="21600" hR="8817" stAng="-10587380" swAng="5187380"/>
                <a:close/>
              </a:path>
            </a:pathLst>
          </a:cu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6094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cessing th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3200400" y="1143000"/>
            <a:ext cx="2438280" cy="2209680"/>
            <a:chOff x="3200400" y="1143000"/>
            <a:chExt cx="2438280" cy="2209680"/>
          </a:xfrm>
        </p:grpSpPr>
        <p:sp>
          <p:nvSpPr>
            <p:cNvPr id="199" name="Rectangle 6"/>
            <p:cNvSpPr/>
            <p:nvPr/>
          </p:nvSpPr>
          <p:spPr>
            <a:xfrm>
              <a:off x="3200400" y="114300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3339000" y="1179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996720" y="2779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3787560" y="141120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0"/>
          <p:cNvSpPr/>
          <p:nvPr/>
        </p:nvSpPr>
        <p:spPr>
          <a:xfrm>
            <a:off x="538920" y="342900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280680" y="3886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Chorine has 17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33520" y="42670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electrons in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66480" y="48006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horine has 17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533520" y="537840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neutrons in an atom is equal to the mass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101120" y="59799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35 – 17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5856120" y="60199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hlorine has 18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363760" y="15228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Lets practic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3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13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.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4011480" y="15238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sm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538920" y="350532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79240" y="396252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Osmium has 76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33520" y="434340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electrons in a 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965400" y="4876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smium has 76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33520" y="545472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neutrons in an atom is equal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number 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101480" y="6056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90 – 76 =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5854680" y="6056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Osmium has 114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5641560" y="544032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 – 40 =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27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Z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1.2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3915000" y="152388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ircon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1"/>
          <p:cNvSpPr/>
          <p:nvPr/>
        </p:nvSpPr>
        <p:spPr>
          <a:xfrm>
            <a:off x="5641920" y="3941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641920" y="4678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301760" y="39416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Prot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28268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c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355760" y="54244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Neu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95680" y="4040280"/>
          <a:ext cx="1758960" cy="1979640"/>
        </p:xfrm>
        <a:graphic>
          <a:graphicData uri="http://schemas.openxmlformats.org/drawingml/2006/table">
            <a:tbl>
              <a:tblPr/>
              <a:tblGrid>
                <a:gridCol w="175896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800280" y="26528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27280" y="42768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raw an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reside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level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We will only deal with levels 1-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fill the closest energy level first, then fill the second, then the third…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2" name="Picture 5" descr="http://tbn0.google.com/images?q=tbn:mC_aT_HPHMKubM:http://www.co.berks.pa.us/jury/lib/jury/Reed_%26_Court_Parking_Garage.jpg"/>
          <p:cNvPicPr/>
          <p:nvPr/>
        </p:nvPicPr>
        <p:blipFill>
          <a:blip r:embed="rId1"/>
          <a:stretch/>
        </p:blipFill>
        <p:spPr>
          <a:xfrm>
            <a:off x="5027760" y="3762360"/>
            <a:ext cx="3597120" cy="2406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627120" y="4230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Think of it like a parking ga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217880" y="210960"/>
            <a:ext cx="9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IV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-141840" y="152280"/>
            <a:ext cx="72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how it work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6005520" y="4844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002280" y="28051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3733920" y="1600200"/>
            <a:ext cx="4647960" cy="4878720"/>
            <a:chOff x="3733920" y="1600200"/>
            <a:chExt cx="4647960" cy="4878720"/>
          </a:xfrm>
        </p:grpSpPr>
        <p:sp>
          <p:nvSpPr>
            <p:cNvPr id="249" name="Oval 3"/>
            <p:cNvSpPr/>
            <p:nvPr/>
          </p:nvSpPr>
          <p:spPr>
            <a:xfrm>
              <a:off x="5753160" y="358128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4"/>
            <p:cNvSpPr/>
            <p:nvPr/>
          </p:nvSpPr>
          <p:spPr>
            <a:xfrm>
              <a:off x="5029200" y="2895480"/>
              <a:ext cx="2057400" cy="20574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>
              <a:off x="4381560" y="2286000"/>
              <a:ext cx="3352680" cy="3352680"/>
            </a:xfrm>
            <a:prstGeom prst="ellipse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3733920" y="1600200"/>
              <a:ext cx="4647960" cy="4648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0"/>
            <p:cNvSpPr/>
            <p:nvPr/>
          </p:nvSpPr>
          <p:spPr>
            <a:xfrm>
              <a:off x="5505480" y="49068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low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5507640" y="5592600"/>
              <a:ext cx="11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higher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5474160" y="620244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02412"/>
                  </a:solidFill>
                  <a:latin typeface="Arial"/>
                </a:rPr>
                <a:t>high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20"/>
          <p:cNvSpPr/>
          <p:nvPr/>
        </p:nvSpPr>
        <p:spPr>
          <a:xfrm>
            <a:off x="457200" y="1523880"/>
            <a:ext cx="3429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1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32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610092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4"/>
          <p:cNvSpPr/>
          <p:nvPr/>
        </p:nvSpPr>
        <p:spPr>
          <a:xfrm>
            <a:off x="5943600" y="2209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5"/>
          <p:cNvSpPr/>
          <p:nvPr/>
        </p:nvSpPr>
        <p:spPr>
          <a:xfrm>
            <a:off x="585000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6"/>
          <p:cNvSpPr/>
          <p:nvPr/>
        </p:nvSpPr>
        <p:spPr>
          <a:xfrm>
            <a:off x="6157800" y="22114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7"/>
          <p:cNvSpPr/>
          <p:nvPr/>
        </p:nvSpPr>
        <p:spPr>
          <a:xfrm>
            <a:off x="4325760" y="382284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1"/>
          <p:cNvSpPr/>
          <p:nvPr/>
        </p:nvSpPr>
        <p:spPr>
          <a:xfrm>
            <a:off x="7651800" y="38037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2"/>
          <p:cNvSpPr/>
          <p:nvPr/>
        </p:nvSpPr>
        <p:spPr>
          <a:xfrm>
            <a:off x="4332240" y="5487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3"/>
          <p:cNvSpPr/>
          <p:nvPr/>
        </p:nvSpPr>
        <p:spPr>
          <a:xfrm>
            <a:off x="8042400" y="2747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4"/>
          <p:cNvSpPr/>
          <p:nvPr/>
        </p:nvSpPr>
        <p:spPr>
          <a:xfrm>
            <a:off x="7392960" y="57610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5"/>
          <p:cNvSpPr/>
          <p:nvPr/>
        </p:nvSpPr>
        <p:spPr>
          <a:xfrm>
            <a:off x="5454720" y="1600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6"/>
          <p:cNvSpPr/>
          <p:nvPr/>
        </p:nvSpPr>
        <p:spPr>
          <a:xfrm>
            <a:off x="7101000" y="17938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7"/>
          <p:cNvSpPr/>
          <p:nvPr/>
        </p:nvSpPr>
        <p:spPr>
          <a:xfrm>
            <a:off x="8278920" y="43369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"/>
          <p:cNvSpPr/>
          <p:nvPr/>
        </p:nvSpPr>
        <p:spPr>
          <a:xfrm>
            <a:off x="3676680" y="38829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9"/>
          <p:cNvSpPr/>
          <p:nvPr/>
        </p:nvSpPr>
        <p:spPr>
          <a:xfrm>
            <a:off x="5875200" y="6172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1"/>
          <p:cNvSpPr/>
          <p:nvPr/>
        </p:nvSpPr>
        <p:spPr>
          <a:xfrm>
            <a:off x="4537080" y="5676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2"/>
          <p:cNvSpPr/>
          <p:nvPr/>
        </p:nvSpPr>
        <p:spPr>
          <a:xfrm>
            <a:off x="3960720" y="26812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3"/>
          <p:cNvSpPr/>
          <p:nvPr/>
        </p:nvSpPr>
        <p:spPr>
          <a:xfrm>
            <a:off x="3664080" y="41259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4"/>
          <p:cNvSpPr/>
          <p:nvPr/>
        </p:nvSpPr>
        <p:spPr>
          <a:xfrm>
            <a:off x="4121280" y="2448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5"/>
          <p:cNvSpPr/>
          <p:nvPr/>
        </p:nvSpPr>
        <p:spPr>
          <a:xfrm>
            <a:off x="5732640" y="15526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6"/>
          <p:cNvSpPr/>
          <p:nvPr/>
        </p:nvSpPr>
        <p:spPr>
          <a:xfrm>
            <a:off x="7294680" y="193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7"/>
          <p:cNvSpPr/>
          <p:nvPr/>
        </p:nvSpPr>
        <p:spPr>
          <a:xfrm>
            <a:off x="8151840" y="295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8"/>
          <p:cNvSpPr/>
          <p:nvPr/>
        </p:nvSpPr>
        <p:spPr>
          <a:xfrm>
            <a:off x="7570800" y="5584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9"/>
          <p:cNvSpPr/>
          <p:nvPr/>
        </p:nvSpPr>
        <p:spPr>
          <a:xfrm>
            <a:off x="6124680" y="6154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0"/>
          <p:cNvSpPr/>
          <p:nvPr/>
        </p:nvSpPr>
        <p:spPr>
          <a:xfrm>
            <a:off x="8319960" y="406224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And the 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UNIT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 Essential Question is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8560" y="289548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What is the structure of the at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xplosion 2 3"/>
          <p:cNvSpPr/>
          <p:nvPr/>
        </p:nvSpPr>
        <p:spPr>
          <a:xfrm>
            <a:off x="3106800" y="4862520"/>
            <a:ext cx="3773520" cy="17128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gic Col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back to you’re K D 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ow many e- are in Oxygen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-draw your oxygen atom with 2 energy level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- Show how many 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re in the nucleu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-2081160" y="152280"/>
            <a:ext cx="1176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Oh, that’s what Oxygen looks like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005520" y="286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016680" y="49132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5680080" y="3613320"/>
            <a:ext cx="868320" cy="84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p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n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5029200" y="294012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4381560" y="2330280"/>
            <a:ext cx="3352680" cy="33530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505480" y="52657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07640" y="56372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457200" y="1523880"/>
            <a:ext cx="34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6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2"/>
          <p:cNvSpPr/>
          <p:nvPr/>
        </p:nvSpPr>
        <p:spPr>
          <a:xfrm>
            <a:off x="5894280" y="55944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6060960" y="223992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5800680" y="2259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1"/>
          <p:cNvSpPr/>
          <p:nvPr/>
        </p:nvSpPr>
        <p:spPr>
          <a:xfrm>
            <a:off x="6191280" y="56037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785880" y="6480"/>
            <a:ext cx="75722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ing it Sharp Students (KI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an an atom of Li have 4 prot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Schoolbook"/>
              </a:rPr>
              <a:t>Can an atom of Li have 3 neutr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can b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ar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 of Be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entury Schoolbook"/>
              </a:rPr>
              <a:t>Can an atom of Li have 2 e-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7" descr="1150RealisticEyeballTexture"/>
          <p:cNvPicPr/>
          <p:nvPr/>
        </p:nvPicPr>
        <p:blipFill>
          <a:blip r:embed="rId2"/>
          <a:stretch/>
        </p:blipFill>
        <p:spPr>
          <a:xfrm>
            <a:off x="311040" y="201600"/>
            <a:ext cx="8558280" cy="6262560"/>
          </a:xfrm>
          <a:prstGeom prst="rect">
            <a:avLst/>
          </a:prstGeom>
          <a:ln w="0">
            <a:noFill/>
          </a:ln>
        </p:spPr>
      </p:pic>
      <p:sp>
        <p:nvSpPr>
          <p:cNvPr id="304" name="WordArt 8"/>
          <p:cNvSpPr txBox="1"/>
          <p:nvPr/>
        </p:nvSpPr>
        <p:spPr>
          <a:xfrm>
            <a:off x="1378080" y="1020600"/>
            <a:ext cx="6022800" cy="474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eep y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  O 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lectr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2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762120" y="11001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negative ion has gain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positive ion has lost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380880" y="3421080"/>
            <a:ext cx="401184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4708440" y="3425760"/>
            <a:ext cx="401328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893880" y="152280"/>
            <a:ext cx="71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Let’s look at Oxyg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6005520" y="48895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046920" y="2833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5689440" y="3581280"/>
            <a:ext cx="730440" cy="73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p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5029200" y="289548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4381560" y="2286000"/>
            <a:ext cx="3352680" cy="33526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5505480" y="49068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5507640" y="559260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7632720" y="3765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4346640" y="3954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6135840" y="220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5870520" y="221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6099120" y="55278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0"/>
          <p:cNvSpPr/>
          <p:nvPr/>
        </p:nvSpPr>
        <p:spPr>
          <a:xfrm>
            <a:off x="-334800" y="23335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1"/>
          <p:cNvSpPr/>
          <p:nvPr/>
        </p:nvSpPr>
        <p:spPr>
          <a:xfrm>
            <a:off x="609480" y="1401840"/>
            <a:ext cx="46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xygen will often take electrons from     another atom to bond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hen bonding with Mg, it will take 2 e- from it to make M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2"/>
          <p:cNvSpPr/>
          <p:nvPr/>
        </p:nvSpPr>
        <p:spPr>
          <a:xfrm>
            <a:off x="-473040" y="338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>
            <a:off x="655560" y="3200400"/>
            <a:ext cx="307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has gained 2 e-, making it an Oxygen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now h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>
            <a:off x="1814400" y="4281480"/>
            <a:ext cx="1371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7"/>
          <p:cNvGrpSpPr/>
          <p:nvPr/>
        </p:nvGrpSpPr>
        <p:grpSpPr>
          <a:xfrm>
            <a:off x="2819520" y="5105520"/>
            <a:ext cx="1098360" cy="1099440"/>
            <a:chOff x="2819520" y="5105520"/>
            <a:chExt cx="1098360" cy="1099440"/>
          </a:xfrm>
        </p:grpSpPr>
        <p:sp>
          <p:nvSpPr>
            <p:cNvPr id="349" name="Text Box 45"/>
            <p:cNvSpPr/>
            <p:nvPr/>
          </p:nvSpPr>
          <p:spPr>
            <a:xfrm>
              <a:off x="2819520" y="5105520"/>
              <a:ext cx="898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6"/>
            <p:cNvSpPr/>
            <p:nvPr/>
          </p:nvSpPr>
          <p:spPr>
            <a:xfrm>
              <a:off x="3460680" y="512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Oval 21"/>
          <p:cNvSpPr/>
          <p:nvPr/>
        </p:nvSpPr>
        <p:spPr>
          <a:xfrm>
            <a:off x="5824440" y="556092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50903 0.19143 E">
                                      <p:cBhvr>
                                        <p:cTn id="92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88802 0.10208 E">
                                      <p:cBhvr>
                                        <p:cTn id="92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6" dur="2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609480" y="11430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Ions are atoms that are formed whe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nega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gaine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osi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los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784080" y="1479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 Ion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138400" y="4389480"/>
            <a:ext cx="461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727280" y="443232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68200" y="58896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19000" y="3133800"/>
            <a:ext cx="74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fill in the K and the D on our KDOh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ave the Oh for later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4" descr=""/>
          <p:cNvPicPr/>
          <p:nvPr/>
        </p:nvPicPr>
        <p:blipFill>
          <a:blip r:embed="rId1"/>
          <a:stretch/>
        </p:blipFill>
        <p:spPr>
          <a:xfrm>
            <a:off x="1122480" y="1859040"/>
            <a:ext cx="4662360" cy="182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logs.oracle.com/talkingidentity/WindowsLiveWriter/WereNumber1AtleastaccordingtoGartner_D9A6/number-one-fan_thumb.jpg"/>
          <p:cNvPicPr/>
          <p:nvPr/>
        </p:nvPicPr>
        <p:blipFill>
          <a:blip r:embed="rId2"/>
          <a:stretch/>
        </p:blipFill>
        <p:spPr>
          <a:xfrm>
            <a:off x="5522760" y="1604880"/>
            <a:ext cx="1492560" cy="152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57200" y="4070520"/>
            <a:ext cx="8362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                 D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Draw an Oxygen Atom                        Oh, that’s what it sho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oxygen atom?                                                                                                  look li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7"/>
          <p:cNvSpPr/>
          <p:nvPr/>
        </p:nvSpPr>
        <p:spPr>
          <a:xfrm flipH="1">
            <a:off x="3080880" y="4602240"/>
            <a:ext cx="1800" cy="19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8"/>
          <p:cNvSpPr/>
          <p:nvPr/>
        </p:nvSpPr>
        <p:spPr>
          <a:xfrm flipH="1">
            <a:off x="6066000" y="4637160"/>
            <a:ext cx="1440" cy="19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0"/>
          <p:cNvSpPr/>
          <p:nvPr/>
        </p:nvSpPr>
        <p:spPr>
          <a:xfrm>
            <a:off x="236520" y="517680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525456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12" descr=""/>
          <p:cNvPicPr/>
          <p:nvPr/>
        </p:nvPicPr>
        <p:blipFill>
          <a:blip r:embed="rId3"/>
          <a:stretch/>
        </p:blipFill>
        <p:spPr>
          <a:xfrm>
            <a:off x="41436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3" descr=""/>
          <p:cNvPicPr/>
          <p:nvPr/>
        </p:nvPicPr>
        <p:blipFill>
          <a:blip r:embed="rId4"/>
          <a:stretch/>
        </p:blipFill>
        <p:spPr>
          <a:xfrm>
            <a:off x="326700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4" descr=""/>
          <p:cNvPicPr/>
          <p:nvPr/>
        </p:nvPicPr>
        <p:blipFill>
          <a:blip r:embed="rId5"/>
          <a:stretch/>
        </p:blipFill>
        <p:spPr>
          <a:xfrm>
            <a:off x="6308640" y="4784760"/>
            <a:ext cx="231156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80880" y="22860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Structure of 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1676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09480" y="9907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tons (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14400" y="22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14400" y="2757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one atomic mass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A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14400" y="34545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dentifies the element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proton"/>
          <p:cNvPicPr/>
          <p:nvPr/>
        </p:nvPicPr>
        <p:blipFill>
          <a:blip r:embed="rId1"/>
          <a:stretch/>
        </p:blipFill>
        <p:spPr>
          <a:xfrm>
            <a:off x="6248520" y="4038480"/>
            <a:ext cx="218124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443520" y="4495680"/>
            <a:ext cx="3382200" cy="1831320"/>
            <a:chOff x="443520" y="4495680"/>
            <a:chExt cx="3382200" cy="1831320"/>
          </a:xfrm>
        </p:grpSpPr>
        <p:grpSp>
          <p:nvGrpSpPr>
            <p:cNvPr id="72" name="Group 14"/>
            <p:cNvGrpSpPr/>
            <p:nvPr/>
          </p:nvGrpSpPr>
          <p:grpSpPr>
            <a:xfrm>
              <a:off x="1676520" y="4495680"/>
              <a:ext cx="2149200" cy="1831320"/>
              <a:chOff x="1676520" y="4495680"/>
              <a:chExt cx="2149200" cy="1831320"/>
            </a:xfrm>
          </p:grpSpPr>
          <p:pic>
            <p:nvPicPr>
              <p:cNvPr id="73" name="Picture 12" descr="protonquark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4495680"/>
                <a:ext cx="1943280" cy="13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13"/>
              <p:cNvSpPr/>
              <p:nvPr/>
            </p:nvSpPr>
            <p:spPr>
              <a:xfrm>
                <a:off x="1676520" y="5806800"/>
                <a:ext cx="2149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proton is believed to be made of 3 quark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16"/>
            <p:cNvSpPr/>
            <p:nvPr/>
          </p:nvSpPr>
          <p:spPr>
            <a:xfrm>
              <a:off x="443520" y="460836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9" descr="nucleus"/>
          <p:cNvPicPr/>
          <p:nvPr/>
        </p:nvPicPr>
        <p:blipFill>
          <a:blip r:embed="rId3"/>
          <a:stretch/>
        </p:blipFill>
        <p:spPr>
          <a:xfrm>
            <a:off x="8305920" y="1295280"/>
            <a:ext cx="538200" cy="520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3930480" y="5199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Up &amp;1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electron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Electrons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914400" y="1752480"/>
            <a:ext cx="5333760" cy="642600"/>
            <a:chOff x="914400" y="1752480"/>
            <a:chExt cx="5333760" cy="642600"/>
          </a:xfrm>
        </p:grpSpPr>
        <p:sp>
          <p:nvSpPr>
            <p:cNvPr id="84" name="Text Box 9"/>
            <p:cNvSpPr/>
            <p:nvPr/>
          </p:nvSpPr>
          <p:spPr>
            <a:xfrm>
              <a:off x="914400" y="182880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entury Schoolbook"/>
                </a:rPr>
                <a:t>3.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 Have a mas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0"/>
            <p:cNvGrpSpPr/>
            <p:nvPr/>
          </p:nvGrpSpPr>
          <p:grpSpPr>
            <a:xfrm>
              <a:off x="4189680" y="1752480"/>
              <a:ext cx="1139400" cy="642600"/>
              <a:chOff x="4189680" y="1752480"/>
              <a:chExt cx="1139400" cy="642600"/>
            </a:xfrm>
          </p:grpSpPr>
          <p:sp>
            <p:nvSpPr>
              <p:cNvPr id="86" name="Line 18"/>
              <p:cNvSpPr/>
              <p:nvPr/>
            </p:nvSpPr>
            <p:spPr>
              <a:xfrm>
                <a:off x="4419360" y="205740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9"/>
              <p:cNvSpPr/>
              <p:nvPr/>
            </p:nvSpPr>
            <p:spPr>
              <a:xfrm>
                <a:off x="4189680" y="1752480"/>
                <a:ext cx="113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8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21"/>
            <p:cNvSpPr/>
            <p:nvPr/>
          </p:nvSpPr>
          <p:spPr>
            <a:xfrm>
              <a:off x="5105160" y="18288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AM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3" descr="electron"/>
          <p:cNvPicPr/>
          <p:nvPr/>
        </p:nvPicPr>
        <p:blipFill>
          <a:blip r:embed="rId1"/>
          <a:stretch/>
        </p:blipFill>
        <p:spPr>
          <a:xfrm>
            <a:off x="6781680" y="3352680"/>
            <a:ext cx="53352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fact1electrons"/>
          <p:cNvPicPr/>
          <p:nvPr/>
        </p:nvPicPr>
        <p:blipFill>
          <a:blip r:embed="rId2"/>
          <a:stretch/>
        </p:blipFill>
        <p:spPr>
          <a:xfrm>
            <a:off x="685800" y="4114800"/>
            <a:ext cx="4762440" cy="172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electron cloud"/>
          <p:cNvPicPr/>
          <p:nvPr/>
        </p:nvPicPr>
        <p:blipFill>
          <a:blip r:embed="rId3"/>
          <a:stretch/>
        </p:blipFill>
        <p:spPr>
          <a:xfrm>
            <a:off x="7772400" y="533520"/>
            <a:ext cx="838080" cy="779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4723560" y="2361960"/>
            <a:ext cx="1674000" cy="609480"/>
            <a:chOff x="4723560" y="2361960"/>
            <a:chExt cx="1674000" cy="609480"/>
          </a:xfrm>
        </p:grpSpPr>
        <p:sp>
          <p:nvSpPr>
            <p:cNvPr id="93" name="AutoShape 26"/>
            <p:cNvSpPr/>
            <p:nvPr/>
          </p:nvSpPr>
          <p:spPr>
            <a:xfrm flipH="1" rot="10800000">
              <a:off x="4723200" y="2361960"/>
              <a:ext cx="304920" cy="609480"/>
            </a:xfrm>
            <a:custGeom>
              <a:avLst/>
              <a:gdLst>
                <a:gd name="textAreaLeft" fmla="*/ 174240 w 304920"/>
                <a:gd name="textAreaRight" fmla="*/ 257040 w 304920"/>
                <a:gd name="textAreaTop" fmla="*/ 82440 h 609480"/>
                <a:gd name="textAreaBottom" fmla="*/ 260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5013000" y="259092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005 am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2"/>
          <p:cNvSpPr/>
          <p:nvPr/>
        </p:nvSpPr>
        <p:spPr>
          <a:xfrm>
            <a:off x="624852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3"/>
          <p:cNvSpPr/>
          <p:nvPr/>
        </p:nvSpPr>
        <p:spPr>
          <a:xfrm>
            <a:off x="4267080" y="1731960"/>
            <a:ext cx="1890720" cy="143820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191" h="906">
                <a:moveTo>
                  <a:pt x="58" y="263"/>
                </a:moveTo>
                <a:cubicBezTo>
                  <a:pt x="87" y="253"/>
                  <a:pt x="111" y="235"/>
                  <a:pt x="134" y="215"/>
                </a:cubicBezTo>
                <a:cubicBezTo>
                  <a:pt x="151" y="200"/>
                  <a:pt x="182" y="167"/>
                  <a:pt x="182" y="167"/>
                </a:cubicBezTo>
                <a:cubicBezTo>
                  <a:pt x="195" y="129"/>
                  <a:pt x="201" y="112"/>
                  <a:pt x="240" y="99"/>
                </a:cubicBezTo>
                <a:cubicBezTo>
                  <a:pt x="225" y="142"/>
                  <a:pt x="216" y="173"/>
                  <a:pt x="182" y="205"/>
                </a:cubicBezTo>
                <a:cubicBezTo>
                  <a:pt x="158" y="264"/>
                  <a:pt x="123" y="316"/>
                  <a:pt x="106" y="378"/>
                </a:cubicBezTo>
                <a:cubicBezTo>
                  <a:pt x="99" y="404"/>
                  <a:pt x="93" y="429"/>
                  <a:pt x="86" y="455"/>
                </a:cubicBezTo>
                <a:cubicBezTo>
                  <a:pt x="84" y="464"/>
                  <a:pt x="67" y="483"/>
                  <a:pt x="77" y="483"/>
                </a:cubicBezTo>
                <a:cubicBezTo>
                  <a:pt x="88" y="483"/>
                  <a:pt x="89" y="464"/>
                  <a:pt x="96" y="455"/>
                </a:cubicBezTo>
                <a:cubicBezTo>
                  <a:pt x="115" y="432"/>
                  <a:pt x="133" y="408"/>
                  <a:pt x="154" y="387"/>
                </a:cubicBezTo>
                <a:cubicBezTo>
                  <a:pt x="169" y="373"/>
                  <a:pt x="187" y="363"/>
                  <a:pt x="202" y="349"/>
                </a:cubicBezTo>
                <a:cubicBezTo>
                  <a:pt x="219" y="334"/>
                  <a:pt x="234" y="317"/>
                  <a:pt x="250" y="301"/>
                </a:cubicBezTo>
                <a:cubicBezTo>
                  <a:pt x="263" y="288"/>
                  <a:pt x="266" y="267"/>
                  <a:pt x="278" y="253"/>
                </a:cubicBezTo>
                <a:cubicBezTo>
                  <a:pt x="285" y="244"/>
                  <a:pt x="298" y="241"/>
                  <a:pt x="307" y="234"/>
                </a:cubicBezTo>
                <a:cubicBezTo>
                  <a:pt x="318" y="225"/>
                  <a:pt x="327" y="216"/>
                  <a:pt x="336" y="205"/>
                </a:cubicBezTo>
                <a:cubicBezTo>
                  <a:pt x="384" y="147"/>
                  <a:pt x="316" y="206"/>
                  <a:pt x="394" y="128"/>
                </a:cubicBezTo>
                <a:cubicBezTo>
                  <a:pt x="402" y="120"/>
                  <a:pt x="547" y="0"/>
                  <a:pt x="480" y="71"/>
                </a:cubicBezTo>
                <a:cubicBezTo>
                  <a:pt x="467" y="119"/>
                  <a:pt x="446" y="134"/>
                  <a:pt x="422" y="176"/>
                </a:cubicBezTo>
                <a:cubicBezTo>
                  <a:pt x="408" y="201"/>
                  <a:pt x="397" y="227"/>
                  <a:pt x="384" y="253"/>
                </a:cubicBezTo>
                <a:cubicBezTo>
                  <a:pt x="377" y="267"/>
                  <a:pt x="374" y="304"/>
                  <a:pt x="365" y="320"/>
                </a:cubicBezTo>
                <a:cubicBezTo>
                  <a:pt x="354" y="340"/>
                  <a:pt x="339" y="359"/>
                  <a:pt x="326" y="378"/>
                </a:cubicBezTo>
                <a:cubicBezTo>
                  <a:pt x="269" y="464"/>
                  <a:pt x="355" y="332"/>
                  <a:pt x="288" y="455"/>
                </a:cubicBezTo>
                <a:cubicBezTo>
                  <a:pt x="277" y="475"/>
                  <a:pt x="250" y="512"/>
                  <a:pt x="250" y="512"/>
                </a:cubicBezTo>
                <a:cubicBezTo>
                  <a:pt x="235" y="572"/>
                  <a:pt x="202" y="626"/>
                  <a:pt x="182" y="685"/>
                </a:cubicBezTo>
                <a:cubicBezTo>
                  <a:pt x="179" y="695"/>
                  <a:pt x="202" y="679"/>
                  <a:pt x="211" y="675"/>
                </a:cubicBezTo>
                <a:cubicBezTo>
                  <a:pt x="224" y="669"/>
                  <a:pt x="238" y="664"/>
                  <a:pt x="250" y="656"/>
                </a:cubicBezTo>
                <a:cubicBezTo>
                  <a:pt x="279" y="638"/>
                  <a:pt x="319" y="594"/>
                  <a:pt x="346" y="570"/>
                </a:cubicBezTo>
                <a:cubicBezTo>
                  <a:pt x="366" y="552"/>
                  <a:pt x="380" y="527"/>
                  <a:pt x="403" y="512"/>
                </a:cubicBezTo>
                <a:cubicBezTo>
                  <a:pt x="422" y="499"/>
                  <a:pt x="445" y="490"/>
                  <a:pt x="461" y="474"/>
                </a:cubicBezTo>
                <a:cubicBezTo>
                  <a:pt x="544" y="391"/>
                  <a:pt x="621" y="303"/>
                  <a:pt x="739" y="272"/>
                </a:cubicBezTo>
                <a:cubicBezTo>
                  <a:pt x="775" y="243"/>
                  <a:pt x="813" y="216"/>
                  <a:pt x="854" y="195"/>
                </a:cubicBezTo>
                <a:cubicBezTo>
                  <a:pt x="858" y="193"/>
                  <a:pt x="848" y="202"/>
                  <a:pt x="845" y="205"/>
                </a:cubicBezTo>
                <a:cubicBezTo>
                  <a:pt x="832" y="219"/>
                  <a:pt x="827" y="238"/>
                  <a:pt x="816" y="253"/>
                </a:cubicBezTo>
                <a:cubicBezTo>
                  <a:pt x="805" y="267"/>
                  <a:pt x="791" y="278"/>
                  <a:pt x="778" y="291"/>
                </a:cubicBezTo>
                <a:cubicBezTo>
                  <a:pt x="754" y="387"/>
                  <a:pt x="673" y="472"/>
                  <a:pt x="624" y="560"/>
                </a:cubicBezTo>
                <a:cubicBezTo>
                  <a:pt x="574" y="649"/>
                  <a:pt x="562" y="737"/>
                  <a:pt x="499" y="819"/>
                </a:cubicBezTo>
                <a:cubicBezTo>
                  <a:pt x="488" y="855"/>
                  <a:pt x="463" y="870"/>
                  <a:pt x="451" y="906"/>
                </a:cubicBezTo>
                <a:cubicBezTo>
                  <a:pt x="436" y="857"/>
                  <a:pt x="460" y="830"/>
                  <a:pt x="490" y="791"/>
                </a:cubicBezTo>
                <a:cubicBezTo>
                  <a:pt x="501" y="754"/>
                  <a:pt x="521" y="728"/>
                  <a:pt x="538" y="695"/>
                </a:cubicBezTo>
                <a:cubicBezTo>
                  <a:pt x="572" y="629"/>
                  <a:pt x="599" y="555"/>
                  <a:pt x="662" y="512"/>
                </a:cubicBezTo>
                <a:cubicBezTo>
                  <a:pt x="682" y="475"/>
                  <a:pt x="708" y="451"/>
                  <a:pt x="730" y="416"/>
                </a:cubicBezTo>
                <a:cubicBezTo>
                  <a:pt x="747" y="388"/>
                  <a:pt x="759" y="357"/>
                  <a:pt x="778" y="330"/>
                </a:cubicBezTo>
                <a:cubicBezTo>
                  <a:pt x="786" y="319"/>
                  <a:pt x="797" y="311"/>
                  <a:pt x="806" y="301"/>
                </a:cubicBezTo>
                <a:cubicBezTo>
                  <a:pt x="813" y="292"/>
                  <a:pt x="819" y="282"/>
                  <a:pt x="826" y="272"/>
                </a:cubicBezTo>
                <a:cubicBezTo>
                  <a:pt x="829" y="259"/>
                  <a:pt x="828" y="245"/>
                  <a:pt x="835" y="234"/>
                </a:cubicBezTo>
                <a:cubicBezTo>
                  <a:pt x="841" y="224"/>
                  <a:pt x="855" y="222"/>
                  <a:pt x="864" y="215"/>
                </a:cubicBezTo>
                <a:cubicBezTo>
                  <a:pt x="896" y="189"/>
                  <a:pt x="887" y="172"/>
                  <a:pt x="931" y="157"/>
                </a:cubicBezTo>
                <a:cubicBezTo>
                  <a:pt x="937" y="147"/>
                  <a:pt x="941" y="135"/>
                  <a:pt x="950" y="128"/>
                </a:cubicBezTo>
                <a:cubicBezTo>
                  <a:pt x="998" y="90"/>
                  <a:pt x="967" y="154"/>
                  <a:pt x="989" y="90"/>
                </a:cubicBezTo>
                <a:cubicBezTo>
                  <a:pt x="1016" y="145"/>
                  <a:pt x="999" y="151"/>
                  <a:pt x="989" y="215"/>
                </a:cubicBezTo>
                <a:cubicBezTo>
                  <a:pt x="996" y="575"/>
                  <a:pt x="950" y="874"/>
                  <a:pt x="1037" y="608"/>
                </a:cubicBezTo>
                <a:cubicBezTo>
                  <a:pt x="1049" y="573"/>
                  <a:pt x="1054" y="543"/>
                  <a:pt x="1075" y="512"/>
                </a:cubicBezTo>
                <a:cubicBezTo>
                  <a:pt x="1093" y="443"/>
                  <a:pt x="1117" y="368"/>
                  <a:pt x="1142" y="301"/>
                </a:cubicBezTo>
                <a:cubicBezTo>
                  <a:pt x="1147" y="288"/>
                  <a:pt x="1157" y="276"/>
                  <a:pt x="1162" y="263"/>
                </a:cubicBezTo>
                <a:cubicBezTo>
                  <a:pt x="1170" y="244"/>
                  <a:pt x="1186" y="185"/>
                  <a:pt x="1181" y="205"/>
                </a:cubicBezTo>
                <a:cubicBezTo>
                  <a:pt x="1178" y="218"/>
                  <a:pt x="1174" y="230"/>
                  <a:pt x="1171" y="243"/>
                </a:cubicBezTo>
                <a:cubicBezTo>
                  <a:pt x="1168" y="426"/>
                  <a:pt x="1191" y="611"/>
                  <a:pt x="1162" y="791"/>
                </a:cubicBezTo>
                <a:cubicBezTo>
                  <a:pt x="1157" y="823"/>
                  <a:pt x="1117" y="746"/>
                  <a:pt x="1094" y="723"/>
                </a:cubicBezTo>
                <a:cubicBezTo>
                  <a:pt x="1049" y="678"/>
                  <a:pt x="1008" y="621"/>
                  <a:pt x="970" y="570"/>
                </a:cubicBezTo>
                <a:cubicBezTo>
                  <a:pt x="956" y="529"/>
                  <a:pt x="932" y="504"/>
                  <a:pt x="902" y="474"/>
                </a:cubicBezTo>
                <a:cubicBezTo>
                  <a:pt x="893" y="434"/>
                  <a:pt x="883" y="416"/>
                  <a:pt x="854" y="387"/>
                </a:cubicBezTo>
                <a:cubicBezTo>
                  <a:pt x="828" y="309"/>
                  <a:pt x="789" y="238"/>
                  <a:pt x="749" y="167"/>
                </a:cubicBezTo>
                <a:cubicBezTo>
                  <a:pt x="743" y="157"/>
                  <a:pt x="735" y="148"/>
                  <a:pt x="730" y="138"/>
                </a:cubicBezTo>
                <a:cubicBezTo>
                  <a:pt x="725" y="129"/>
                  <a:pt x="725" y="118"/>
                  <a:pt x="720" y="109"/>
                </a:cubicBezTo>
                <a:cubicBezTo>
                  <a:pt x="709" y="89"/>
                  <a:pt x="682" y="51"/>
                  <a:pt x="682" y="51"/>
                </a:cubicBezTo>
                <a:cubicBezTo>
                  <a:pt x="648" y="151"/>
                  <a:pt x="677" y="285"/>
                  <a:pt x="710" y="387"/>
                </a:cubicBezTo>
                <a:cubicBezTo>
                  <a:pt x="717" y="580"/>
                  <a:pt x="713" y="604"/>
                  <a:pt x="749" y="743"/>
                </a:cubicBezTo>
                <a:cubicBezTo>
                  <a:pt x="746" y="752"/>
                  <a:pt x="749" y="769"/>
                  <a:pt x="739" y="771"/>
                </a:cubicBezTo>
                <a:cubicBezTo>
                  <a:pt x="728" y="774"/>
                  <a:pt x="720" y="758"/>
                  <a:pt x="710" y="752"/>
                </a:cubicBezTo>
                <a:cubicBezTo>
                  <a:pt x="685" y="738"/>
                  <a:pt x="654" y="734"/>
                  <a:pt x="634" y="714"/>
                </a:cubicBezTo>
                <a:cubicBezTo>
                  <a:pt x="585" y="665"/>
                  <a:pt x="572" y="644"/>
                  <a:pt x="509" y="627"/>
                </a:cubicBezTo>
                <a:cubicBezTo>
                  <a:pt x="467" y="603"/>
                  <a:pt x="440" y="591"/>
                  <a:pt x="394" y="579"/>
                </a:cubicBezTo>
                <a:cubicBezTo>
                  <a:pt x="280" y="504"/>
                  <a:pt x="128" y="508"/>
                  <a:pt x="0" y="503"/>
                </a:cubicBezTo>
                <a:cubicBezTo>
                  <a:pt x="170" y="444"/>
                  <a:pt x="343" y="400"/>
                  <a:pt x="518" y="359"/>
                </a:cubicBezTo>
                <a:cubicBezTo>
                  <a:pt x="557" y="320"/>
                  <a:pt x="620" y="326"/>
                  <a:pt x="672" y="320"/>
                </a:cubicBezTo>
                <a:cubicBezTo>
                  <a:pt x="725" y="307"/>
                  <a:pt x="772" y="290"/>
                  <a:pt x="826" y="282"/>
                </a:cubicBezTo>
                <a:cubicBezTo>
                  <a:pt x="876" y="264"/>
                  <a:pt x="846" y="277"/>
                  <a:pt x="912" y="234"/>
                </a:cubicBezTo>
                <a:cubicBezTo>
                  <a:pt x="933" y="220"/>
                  <a:pt x="982" y="214"/>
                  <a:pt x="1008" y="205"/>
                </a:cubicBezTo>
                <a:cubicBezTo>
                  <a:pt x="979" y="160"/>
                  <a:pt x="923" y="131"/>
                  <a:pt x="874" y="109"/>
                </a:cubicBezTo>
                <a:cubicBezTo>
                  <a:pt x="855" y="101"/>
                  <a:pt x="816" y="90"/>
                  <a:pt x="816" y="90"/>
                </a:cubicBezTo>
                <a:cubicBezTo>
                  <a:pt x="824" y="136"/>
                  <a:pt x="836" y="179"/>
                  <a:pt x="845" y="224"/>
                </a:cubicBezTo>
                <a:cubicBezTo>
                  <a:pt x="848" y="253"/>
                  <a:pt x="848" y="282"/>
                  <a:pt x="854" y="311"/>
                </a:cubicBezTo>
                <a:cubicBezTo>
                  <a:pt x="858" y="331"/>
                  <a:pt x="874" y="368"/>
                  <a:pt x="874" y="368"/>
                </a:cubicBezTo>
                <a:cubicBezTo>
                  <a:pt x="887" y="503"/>
                  <a:pt x="902" y="635"/>
                  <a:pt x="902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21" descr=""/>
          <p:cNvPicPr/>
          <p:nvPr/>
        </p:nvPicPr>
        <p:blipFill>
          <a:blip r:embed="rId4"/>
          <a:stretch/>
        </p:blipFill>
        <p:spPr>
          <a:xfrm>
            <a:off x="1596960" y="4638600"/>
            <a:ext cx="2901960" cy="16336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22"/>
          <p:cNvSpPr/>
          <p:nvPr/>
        </p:nvSpPr>
        <p:spPr>
          <a:xfrm>
            <a:off x="7270920" y="2610000"/>
            <a:ext cx="1519200" cy="766440"/>
          </a:xfrm>
          <a:prstGeom prst="wedgeRoundRectCallout">
            <a:avLst>
              <a:gd name="adj1" fmla="val -45106"/>
              <a:gd name="adj2" fmla="val 70189"/>
              <a:gd name="adj3" fmla="val 16667"/>
            </a:avLst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entury Schoolbook"/>
              </a:rPr>
              <a:t>Isn’t she c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Neutrons (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14400" y="1828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" descr="neutron"/>
          <p:cNvPicPr/>
          <p:nvPr/>
        </p:nvPicPr>
        <p:blipFill>
          <a:blip r:embed="rId1"/>
          <a:stretch/>
        </p:blipFill>
        <p:spPr>
          <a:xfrm>
            <a:off x="6095880" y="3200400"/>
            <a:ext cx="23623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4"/>
          <p:cNvGrpSpPr/>
          <p:nvPr/>
        </p:nvGrpSpPr>
        <p:grpSpPr>
          <a:xfrm>
            <a:off x="2160" y="4343400"/>
            <a:ext cx="4239000" cy="1833840"/>
            <a:chOff x="2160" y="4343400"/>
            <a:chExt cx="4239000" cy="1833840"/>
          </a:xfrm>
        </p:grpSpPr>
        <p:pic>
          <p:nvPicPr>
            <p:cNvPr id="107" name="Picture 21" descr="neutronquark"/>
            <p:cNvPicPr/>
            <p:nvPr/>
          </p:nvPicPr>
          <p:blipFill>
            <a:blip r:embed="rId2"/>
            <a:stretch/>
          </p:blipFill>
          <p:spPr>
            <a:xfrm>
              <a:off x="1238760" y="4343400"/>
              <a:ext cx="22716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22"/>
            <p:cNvSpPr/>
            <p:nvPr/>
          </p:nvSpPr>
          <p:spPr>
            <a:xfrm>
              <a:off x="1021680" y="5900760"/>
              <a:ext cx="321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neutron is believed to be made of 3 qua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60" y="453780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6" descr="factneuton"/>
          <p:cNvPicPr/>
          <p:nvPr/>
        </p:nvPicPr>
        <p:blipFill>
          <a:blip r:embed="rId3"/>
          <a:stretch/>
        </p:blipFill>
        <p:spPr>
          <a:xfrm>
            <a:off x="1905120" y="2666880"/>
            <a:ext cx="3733560" cy="107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nucleus"/>
          <p:cNvPicPr/>
          <p:nvPr/>
        </p:nvPicPr>
        <p:blipFill>
          <a:blip r:embed="rId4"/>
          <a:stretch/>
        </p:blipFill>
        <p:spPr>
          <a:xfrm>
            <a:off x="8305920" y="380880"/>
            <a:ext cx="538200" cy="52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proton"/>
          <p:cNvPicPr/>
          <p:nvPr/>
        </p:nvPicPr>
        <p:blipFill>
          <a:blip r:embed="rId5"/>
          <a:stretch/>
        </p:blipFill>
        <p:spPr>
          <a:xfrm>
            <a:off x="6138720" y="3206880"/>
            <a:ext cx="2194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D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sotope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09480" y="106056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All atoms of the sam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the same number of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, they never change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AT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09480" y="30988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The number of Neutrons varies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ach element.  That’s why we have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ver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62120" y="472284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Isotopes are atoms of the s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element that have a differen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number of </a:t>
            </a: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9320" y="2286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2412"/>
                </a:solidFill>
                <a:latin typeface="Arial"/>
              </a:rPr>
              <a:t>Here are some more facts about subatomic 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act3"/>
          <p:cNvPicPr/>
          <p:nvPr/>
        </p:nvPicPr>
        <p:blipFill>
          <a:blip r:embed="rId1"/>
          <a:stretch/>
        </p:blipFill>
        <p:spPr>
          <a:xfrm>
            <a:off x="457200" y="1219320"/>
            <a:ext cx="5029200" cy="219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act4"/>
          <p:cNvPicPr/>
          <p:nvPr/>
        </p:nvPicPr>
        <p:blipFill>
          <a:blip r:embed="rId2"/>
          <a:stretch/>
        </p:blipFill>
        <p:spPr>
          <a:xfrm>
            <a:off x="4191120" y="3962520"/>
            <a:ext cx="4381560" cy="2217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071360" y="4713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481440" y="1905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62120" y="563868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ss numbe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sum of the protons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in a giv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30492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2412"/>
                </a:solidFill>
                <a:latin typeface="Arial"/>
              </a:rPr>
              <a:t>Here are a few things to think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51080" y="83808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is most of the mass found inside the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859440" y="8380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28800" y="1295280"/>
            <a:ext cx="58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an electron is 1836 times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a proton, so their mass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n an atom is insignific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natural element is uranium which has 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.  The total mass of 92 electrons is stil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of the mass of one pro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s miniscule compar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basically equal to the mas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cleus which contains the protons and neutr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calle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2:56:20Z</dcterms:created>
  <dc:creator>desktop</dc:creator>
  <dc:description/>
  <dc:language>en-US</dc:language>
  <cp:lastModifiedBy>rrita</cp:lastModifiedBy>
  <dcterms:modified xsi:type="dcterms:W3CDTF">2009-11-02T11:46:11Z</dcterms:modified>
  <cp:revision>123</cp:revision>
  <dc:subject/>
  <dc:title>Slide 1</dc:title>
</cp:coreProperties>
</file>