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F407-6367-4EFF-81A3-F4D610AA3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F972-A80A-476D-B4D5-7BAF0796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EF80-A120-4BDB-866D-2967EC0B7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91EA-9311-4DC7-ABBF-4A395DF5C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EAAD-CF7C-4B6C-B517-58A4E865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C3EA-E4E5-4557-B4DD-1EF97711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40F0-52FD-4BCA-B7EB-E59285CD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0452-2007-45D3-9628-5012FDBF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80C7-228D-4E40-8A06-8CFDF76D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F018-071F-493D-8302-0628B857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F215-A6A0-49AE-B01D-9ACB2B07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6046-04C3-4820-BED3-2E4C288E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12D8-04B9-476A-B55C-228041EF28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hyperlink" Target="http://id.mind.net/~zona/mstm/physics/waves/partsOfAWave/waveParts.htm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image/0102/sonicboomplane_navy_big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hapter 25 &amp; 26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ves &amp; S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erms you need to know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quenc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vel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ve sp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plitu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st &amp; Tro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eriod (T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easure of Time (se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are here for ONE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ime it takes for a pendulum to swing out and back, peak to peak, trough to tro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requency (</a:t>
            </a:r>
            <a:r>
              <a:rPr b="0" i="1" lang="en-US" sz="4800" spc="-1" strike="noStrike">
                <a:solidFill>
                  <a:srgbClr val="ffff99"/>
                </a:solidFill>
                <a:latin typeface="Arial"/>
              </a:rPr>
              <a:t>f 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times a wave occurs within a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requen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om 408, Five times a 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ell…..most of yo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d in Hertz (Hz), mea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cles per secon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6095880" cy="2630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819520" y="3809880"/>
            <a:ext cx="6095880" cy="2630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avelength (</a:t>
            </a:r>
            <a:r>
              <a:rPr b="0" lang="en-US" sz="4400" spc="-1" strike="noStrike">
                <a:solidFill>
                  <a:srgbClr val="ffff99"/>
                </a:solidFill>
                <a:latin typeface="Symbol"/>
                <a:ea typeface="Symbol"/>
              </a:rPr>
              <a:t>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ves have a repeating pattern, the wavelength is the width of one of those repeating por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d in 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4495680"/>
            <a:ext cx="2498760" cy="1236960"/>
          </a:xfrm>
          <a:custGeom>
            <a:avLst/>
            <a:gdLst/>
            <a:ahLst/>
            <a:rect l="l" t="t" r="r" b="b"/>
            <a:pathLst>
              <a:path w="1574" h="779">
                <a:moveTo>
                  <a:pt x="0" y="405"/>
                </a:moveTo>
                <a:cubicBezTo>
                  <a:pt x="23" y="480"/>
                  <a:pt x="28" y="505"/>
                  <a:pt x="96" y="549"/>
                </a:cubicBezTo>
                <a:cubicBezTo>
                  <a:pt x="106" y="582"/>
                  <a:pt x="119" y="601"/>
                  <a:pt x="144" y="626"/>
                </a:cubicBezTo>
                <a:cubicBezTo>
                  <a:pt x="158" y="669"/>
                  <a:pt x="180" y="689"/>
                  <a:pt x="220" y="702"/>
                </a:cubicBezTo>
                <a:cubicBezTo>
                  <a:pt x="227" y="709"/>
                  <a:pt x="235" y="714"/>
                  <a:pt x="240" y="722"/>
                </a:cubicBezTo>
                <a:cubicBezTo>
                  <a:pt x="245" y="730"/>
                  <a:pt x="241" y="744"/>
                  <a:pt x="249" y="750"/>
                </a:cubicBezTo>
                <a:cubicBezTo>
                  <a:pt x="285" y="776"/>
                  <a:pt x="370" y="776"/>
                  <a:pt x="403" y="779"/>
                </a:cubicBezTo>
                <a:cubicBezTo>
                  <a:pt x="425" y="776"/>
                  <a:pt x="448" y="777"/>
                  <a:pt x="470" y="770"/>
                </a:cubicBezTo>
                <a:cubicBezTo>
                  <a:pt x="499" y="761"/>
                  <a:pt x="502" y="743"/>
                  <a:pt x="518" y="722"/>
                </a:cubicBezTo>
                <a:cubicBezTo>
                  <a:pt x="545" y="688"/>
                  <a:pt x="565" y="655"/>
                  <a:pt x="585" y="616"/>
                </a:cubicBezTo>
                <a:cubicBezTo>
                  <a:pt x="612" y="562"/>
                  <a:pt x="594" y="540"/>
                  <a:pt x="652" y="501"/>
                </a:cubicBezTo>
                <a:cubicBezTo>
                  <a:pt x="673" y="440"/>
                  <a:pt x="703" y="383"/>
                  <a:pt x="758" y="347"/>
                </a:cubicBezTo>
                <a:cubicBezTo>
                  <a:pt x="799" y="286"/>
                  <a:pt x="813" y="280"/>
                  <a:pt x="864" y="232"/>
                </a:cubicBezTo>
                <a:cubicBezTo>
                  <a:pt x="867" y="219"/>
                  <a:pt x="866" y="205"/>
                  <a:pt x="873" y="194"/>
                </a:cubicBezTo>
                <a:cubicBezTo>
                  <a:pt x="883" y="178"/>
                  <a:pt x="912" y="155"/>
                  <a:pt x="912" y="155"/>
                </a:cubicBezTo>
                <a:cubicBezTo>
                  <a:pt x="934" y="84"/>
                  <a:pt x="902" y="166"/>
                  <a:pt x="950" y="107"/>
                </a:cubicBezTo>
                <a:cubicBezTo>
                  <a:pt x="982" y="68"/>
                  <a:pt x="930" y="82"/>
                  <a:pt x="988" y="50"/>
                </a:cubicBezTo>
                <a:cubicBezTo>
                  <a:pt x="1002" y="42"/>
                  <a:pt x="1085" y="8"/>
                  <a:pt x="1104" y="2"/>
                </a:cubicBezTo>
                <a:cubicBezTo>
                  <a:pt x="1158" y="5"/>
                  <a:pt x="1214" y="0"/>
                  <a:pt x="1267" y="11"/>
                </a:cubicBezTo>
                <a:cubicBezTo>
                  <a:pt x="1288" y="15"/>
                  <a:pt x="1303" y="57"/>
                  <a:pt x="1315" y="69"/>
                </a:cubicBezTo>
                <a:cubicBezTo>
                  <a:pt x="1332" y="86"/>
                  <a:pt x="1350" y="90"/>
                  <a:pt x="1372" y="98"/>
                </a:cubicBezTo>
                <a:cubicBezTo>
                  <a:pt x="1405" y="129"/>
                  <a:pt x="1398" y="167"/>
                  <a:pt x="1420" y="203"/>
                </a:cubicBezTo>
                <a:cubicBezTo>
                  <a:pt x="1430" y="219"/>
                  <a:pt x="1446" y="229"/>
                  <a:pt x="1459" y="242"/>
                </a:cubicBezTo>
                <a:cubicBezTo>
                  <a:pt x="1487" y="326"/>
                  <a:pt x="1471" y="280"/>
                  <a:pt x="1526" y="338"/>
                </a:cubicBezTo>
                <a:cubicBezTo>
                  <a:pt x="1540" y="378"/>
                  <a:pt x="1526" y="366"/>
                  <a:pt x="1574" y="366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4495680"/>
            <a:ext cx="2362320" cy="1295640"/>
          </a:xfrm>
          <a:custGeom>
            <a:avLst/>
            <a:gdLst/>
            <a:ahLst/>
            <a:rect l="l" t="t" r="r" b="b"/>
            <a:pathLst>
              <a:path w="1584" h="816">
                <a:moveTo>
                  <a:pt x="0" y="0"/>
                </a:moveTo>
                <a:cubicBezTo>
                  <a:pt x="45" y="16"/>
                  <a:pt x="90" y="4"/>
                  <a:pt x="125" y="39"/>
                </a:cubicBezTo>
                <a:cubicBezTo>
                  <a:pt x="128" y="48"/>
                  <a:pt x="129" y="59"/>
                  <a:pt x="134" y="67"/>
                </a:cubicBezTo>
                <a:cubicBezTo>
                  <a:pt x="139" y="75"/>
                  <a:pt x="149" y="79"/>
                  <a:pt x="153" y="87"/>
                </a:cubicBezTo>
                <a:cubicBezTo>
                  <a:pt x="180" y="149"/>
                  <a:pt x="138" y="127"/>
                  <a:pt x="192" y="144"/>
                </a:cubicBezTo>
                <a:cubicBezTo>
                  <a:pt x="198" y="163"/>
                  <a:pt x="205" y="183"/>
                  <a:pt x="211" y="202"/>
                </a:cubicBezTo>
                <a:cubicBezTo>
                  <a:pt x="214" y="212"/>
                  <a:pt x="218" y="221"/>
                  <a:pt x="221" y="231"/>
                </a:cubicBezTo>
                <a:cubicBezTo>
                  <a:pt x="224" y="240"/>
                  <a:pt x="223" y="252"/>
                  <a:pt x="230" y="259"/>
                </a:cubicBezTo>
                <a:cubicBezTo>
                  <a:pt x="266" y="295"/>
                  <a:pt x="308" y="322"/>
                  <a:pt x="336" y="365"/>
                </a:cubicBezTo>
                <a:cubicBezTo>
                  <a:pt x="353" y="419"/>
                  <a:pt x="342" y="461"/>
                  <a:pt x="403" y="480"/>
                </a:cubicBezTo>
                <a:cubicBezTo>
                  <a:pt x="413" y="490"/>
                  <a:pt x="421" y="500"/>
                  <a:pt x="432" y="509"/>
                </a:cubicBezTo>
                <a:cubicBezTo>
                  <a:pt x="441" y="516"/>
                  <a:pt x="455" y="518"/>
                  <a:pt x="461" y="528"/>
                </a:cubicBezTo>
                <a:cubicBezTo>
                  <a:pt x="518" y="620"/>
                  <a:pt x="443" y="562"/>
                  <a:pt x="509" y="605"/>
                </a:cubicBezTo>
                <a:cubicBezTo>
                  <a:pt x="553" y="673"/>
                  <a:pt x="528" y="650"/>
                  <a:pt x="576" y="682"/>
                </a:cubicBezTo>
                <a:cubicBezTo>
                  <a:pt x="603" y="723"/>
                  <a:pt x="641" y="741"/>
                  <a:pt x="681" y="768"/>
                </a:cubicBezTo>
                <a:cubicBezTo>
                  <a:pt x="689" y="773"/>
                  <a:pt x="693" y="783"/>
                  <a:pt x="701" y="787"/>
                </a:cubicBezTo>
                <a:cubicBezTo>
                  <a:pt x="719" y="796"/>
                  <a:pt x="739" y="801"/>
                  <a:pt x="758" y="807"/>
                </a:cubicBezTo>
                <a:cubicBezTo>
                  <a:pt x="768" y="810"/>
                  <a:pt x="787" y="816"/>
                  <a:pt x="787" y="816"/>
                </a:cubicBezTo>
                <a:cubicBezTo>
                  <a:pt x="816" y="813"/>
                  <a:pt x="845" y="815"/>
                  <a:pt x="873" y="807"/>
                </a:cubicBezTo>
                <a:cubicBezTo>
                  <a:pt x="892" y="802"/>
                  <a:pt x="919" y="754"/>
                  <a:pt x="931" y="739"/>
                </a:cubicBezTo>
                <a:cubicBezTo>
                  <a:pt x="938" y="730"/>
                  <a:pt x="943" y="720"/>
                  <a:pt x="950" y="711"/>
                </a:cubicBezTo>
                <a:cubicBezTo>
                  <a:pt x="962" y="697"/>
                  <a:pt x="989" y="672"/>
                  <a:pt x="989" y="672"/>
                </a:cubicBezTo>
                <a:cubicBezTo>
                  <a:pt x="996" y="651"/>
                  <a:pt x="999" y="631"/>
                  <a:pt x="1017" y="615"/>
                </a:cubicBezTo>
                <a:cubicBezTo>
                  <a:pt x="1035" y="600"/>
                  <a:pt x="1075" y="576"/>
                  <a:pt x="1075" y="576"/>
                </a:cubicBezTo>
                <a:cubicBezTo>
                  <a:pt x="1105" y="532"/>
                  <a:pt x="1134" y="490"/>
                  <a:pt x="1171" y="451"/>
                </a:cubicBezTo>
                <a:cubicBezTo>
                  <a:pt x="1180" y="397"/>
                  <a:pt x="1198" y="347"/>
                  <a:pt x="1238" y="307"/>
                </a:cubicBezTo>
                <a:cubicBezTo>
                  <a:pt x="1254" y="291"/>
                  <a:pt x="1270" y="275"/>
                  <a:pt x="1286" y="259"/>
                </a:cubicBezTo>
                <a:cubicBezTo>
                  <a:pt x="1296" y="250"/>
                  <a:pt x="1315" y="231"/>
                  <a:pt x="1315" y="231"/>
                </a:cubicBezTo>
                <a:cubicBezTo>
                  <a:pt x="1330" y="188"/>
                  <a:pt x="1347" y="195"/>
                  <a:pt x="1373" y="163"/>
                </a:cubicBezTo>
                <a:cubicBezTo>
                  <a:pt x="1397" y="134"/>
                  <a:pt x="1407" y="117"/>
                  <a:pt x="1440" y="96"/>
                </a:cubicBezTo>
                <a:cubicBezTo>
                  <a:pt x="1473" y="45"/>
                  <a:pt x="1522" y="29"/>
                  <a:pt x="1584" y="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495680"/>
            <a:ext cx="1798560" cy="1219320"/>
          </a:xfrm>
          <a:custGeom>
            <a:avLst/>
            <a:gdLst/>
            <a:ahLst/>
            <a:rect l="l" t="t" r="r" b="b"/>
            <a:pathLst>
              <a:path w="1133" h="768">
                <a:moveTo>
                  <a:pt x="0" y="768"/>
                </a:moveTo>
                <a:cubicBezTo>
                  <a:pt x="53" y="750"/>
                  <a:pt x="48" y="715"/>
                  <a:pt x="77" y="672"/>
                </a:cubicBezTo>
                <a:cubicBezTo>
                  <a:pt x="85" y="626"/>
                  <a:pt x="83" y="597"/>
                  <a:pt x="116" y="566"/>
                </a:cubicBezTo>
                <a:cubicBezTo>
                  <a:pt x="143" y="480"/>
                  <a:pt x="103" y="598"/>
                  <a:pt x="144" y="508"/>
                </a:cubicBezTo>
                <a:cubicBezTo>
                  <a:pt x="179" y="430"/>
                  <a:pt x="209" y="335"/>
                  <a:pt x="298" y="307"/>
                </a:cubicBezTo>
                <a:cubicBezTo>
                  <a:pt x="304" y="297"/>
                  <a:pt x="309" y="286"/>
                  <a:pt x="317" y="278"/>
                </a:cubicBezTo>
                <a:cubicBezTo>
                  <a:pt x="325" y="270"/>
                  <a:pt x="338" y="268"/>
                  <a:pt x="346" y="259"/>
                </a:cubicBezTo>
                <a:cubicBezTo>
                  <a:pt x="374" y="227"/>
                  <a:pt x="396" y="186"/>
                  <a:pt x="423" y="153"/>
                </a:cubicBezTo>
                <a:cubicBezTo>
                  <a:pt x="452" y="118"/>
                  <a:pt x="493" y="95"/>
                  <a:pt x="528" y="67"/>
                </a:cubicBezTo>
                <a:cubicBezTo>
                  <a:pt x="562" y="40"/>
                  <a:pt x="580" y="14"/>
                  <a:pt x="624" y="0"/>
                </a:cubicBezTo>
                <a:cubicBezTo>
                  <a:pt x="690" y="6"/>
                  <a:pt x="752" y="13"/>
                  <a:pt x="816" y="28"/>
                </a:cubicBezTo>
                <a:cubicBezTo>
                  <a:pt x="831" y="43"/>
                  <a:pt x="839" y="63"/>
                  <a:pt x="855" y="76"/>
                </a:cubicBezTo>
                <a:cubicBezTo>
                  <a:pt x="863" y="82"/>
                  <a:pt x="875" y="81"/>
                  <a:pt x="884" y="86"/>
                </a:cubicBezTo>
                <a:cubicBezTo>
                  <a:pt x="911" y="100"/>
                  <a:pt x="931" y="123"/>
                  <a:pt x="951" y="144"/>
                </a:cubicBezTo>
                <a:cubicBezTo>
                  <a:pt x="971" y="204"/>
                  <a:pt x="993" y="271"/>
                  <a:pt x="1047" y="307"/>
                </a:cubicBezTo>
                <a:cubicBezTo>
                  <a:pt x="1060" y="350"/>
                  <a:pt x="1086" y="374"/>
                  <a:pt x="1133" y="374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62920" y="4572000"/>
            <a:ext cx="1844640" cy="1230480"/>
          </a:xfrm>
          <a:custGeom>
            <a:avLst/>
            <a:gdLst/>
            <a:ahLst/>
            <a:rect l="l" t="t" r="r" b="b"/>
            <a:pathLst>
              <a:path w="1162" h="775">
                <a:moveTo>
                  <a:pt x="0" y="423"/>
                </a:moveTo>
                <a:cubicBezTo>
                  <a:pt x="19" y="476"/>
                  <a:pt x="4" y="500"/>
                  <a:pt x="58" y="519"/>
                </a:cubicBezTo>
                <a:cubicBezTo>
                  <a:pt x="110" y="595"/>
                  <a:pt x="169" y="679"/>
                  <a:pt x="259" y="711"/>
                </a:cubicBezTo>
                <a:cubicBezTo>
                  <a:pt x="326" y="775"/>
                  <a:pt x="416" y="734"/>
                  <a:pt x="509" y="730"/>
                </a:cubicBezTo>
                <a:cubicBezTo>
                  <a:pt x="520" y="699"/>
                  <a:pt x="537" y="675"/>
                  <a:pt x="547" y="643"/>
                </a:cubicBezTo>
                <a:cubicBezTo>
                  <a:pt x="557" y="576"/>
                  <a:pt x="557" y="528"/>
                  <a:pt x="615" y="490"/>
                </a:cubicBezTo>
                <a:cubicBezTo>
                  <a:pt x="666" y="413"/>
                  <a:pt x="599" y="506"/>
                  <a:pt x="663" y="442"/>
                </a:cubicBezTo>
                <a:cubicBezTo>
                  <a:pt x="727" y="378"/>
                  <a:pt x="634" y="445"/>
                  <a:pt x="711" y="394"/>
                </a:cubicBezTo>
                <a:cubicBezTo>
                  <a:pt x="733" y="361"/>
                  <a:pt x="754" y="339"/>
                  <a:pt x="787" y="317"/>
                </a:cubicBezTo>
                <a:cubicBezTo>
                  <a:pt x="813" y="279"/>
                  <a:pt x="849" y="260"/>
                  <a:pt x="874" y="221"/>
                </a:cubicBezTo>
                <a:cubicBezTo>
                  <a:pt x="881" y="157"/>
                  <a:pt x="872" y="129"/>
                  <a:pt x="922" y="96"/>
                </a:cubicBezTo>
                <a:cubicBezTo>
                  <a:pt x="950" y="54"/>
                  <a:pt x="977" y="56"/>
                  <a:pt x="1027" y="39"/>
                </a:cubicBezTo>
                <a:cubicBezTo>
                  <a:pt x="1078" y="22"/>
                  <a:pt x="1107" y="0"/>
                  <a:pt x="1162" y="0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14800" y="4495680"/>
            <a:ext cx="2362320" cy="1295640"/>
          </a:xfrm>
          <a:custGeom>
            <a:avLst/>
            <a:gdLst/>
            <a:ahLst/>
            <a:rect l="l" t="t" r="r" b="b"/>
            <a:pathLst>
              <a:path w="1584" h="816">
                <a:moveTo>
                  <a:pt x="0" y="0"/>
                </a:moveTo>
                <a:cubicBezTo>
                  <a:pt x="45" y="16"/>
                  <a:pt x="90" y="4"/>
                  <a:pt x="125" y="39"/>
                </a:cubicBezTo>
                <a:cubicBezTo>
                  <a:pt x="128" y="48"/>
                  <a:pt x="129" y="59"/>
                  <a:pt x="134" y="67"/>
                </a:cubicBezTo>
                <a:cubicBezTo>
                  <a:pt x="139" y="75"/>
                  <a:pt x="149" y="79"/>
                  <a:pt x="153" y="87"/>
                </a:cubicBezTo>
                <a:cubicBezTo>
                  <a:pt x="180" y="149"/>
                  <a:pt x="138" y="127"/>
                  <a:pt x="192" y="144"/>
                </a:cubicBezTo>
                <a:cubicBezTo>
                  <a:pt x="198" y="163"/>
                  <a:pt x="205" y="183"/>
                  <a:pt x="211" y="202"/>
                </a:cubicBezTo>
                <a:cubicBezTo>
                  <a:pt x="214" y="212"/>
                  <a:pt x="218" y="221"/>
                  <a:pt x="221" y="231"/>
                </a:cubicBezTo>
                <a:cubicBezTo>
                  <a:pt x="224" y="240"/>
                  <a:pt x="223" y="252"/>
                  <a:pt x="230" y="259"/>
                </a:cubicBezTo>
                <a:cubicBezTo>
                  <a:pt x="266" y="295"/>
                  <a:pt x="308" y="322"/>
                  <a:pt x="336" y="365"/>
                </a:cubicBezTo>
                <a:cubicBezTo>
                  <a:pt x="353" y="419"/>
                  <a:pt x="342" y="461"/>
                  <a:pt x="403" y="480"/>
                </a:cubicBezTo>
                <a:cubicBezTo>
                  <a:pt x="413" y="490"/>
                  <a:pt x="421" y="500"/>
                  <a:pt x="432" y="509"/>
                </a:cubicBezTo>
                <a:cubicBezTo>
                  <a:pt x="441" y="516"/>
                  <a:pt x="455" y="518"/>
                  <a:pt x="461" y="528"/>
                </a:cubicBezTo>
                <a:cubicBezTo>
                  <a:pt x="518" y="620"/>
                  <a:pt x="443" y="562"/>
                  <a:pt x="509" y="605"/>
                </a:cubicBezTo>
                <a:cubicBezTo>
                  <a:pt x="553" y="673"/>
                  <a:pt x="528" y="650"/>
                  <a:pt x="576" y="682"/>
                </a:cubicBezTo>
                <a:cubicBezTo>
                  <a:pt x="603" y="723"/>
                  <a:pt x="641" y="741"/>
                  <a:pt x="681" y="768"/>
                </a:cubicBezTo>
                <a:cubicBezTo>
                  <a:pt x="689" y="773"/>
                  <a:pt x="693" y="783"/>
                  <a:pt x="701" y="787"/>
                </a:cubicBezTo>
                <a:cubicBezTo>
                  <a:pt x="719" y="796"/>
                  <a:pt x="739" y="801"/>
                  <a:pt x="758" y="807"/>
                </a:cubicBezTo>
                <a:cubicBezTo>
                  <a:pt x="768" y="810"/>
                  <a:pt x="787" y="816"/>
                  <a:pt x="787" y="816"/>
                </a:cubicBezTo>
                <a:cubicBezTo>
                  <a:pt x="816" y="813"/>
                  <a:pt x="845" y="815"/>
                  <a:pt x="873" y="807"/>
                </a:cubicBezTo>
                <a:cubicBezTo>
                  <a:pt x="892" y="802"/>
                  <a:pt x="919" y="754"/>
                  <a:pt x="931" y="739"/>
                </a:cubicBezTo>
                <a:cubicBezTo>
                  <a:pt x="938" y="730"/>
                  <a:pt x="943" y="720"/>
                  <a:pt x="950" y="711"/>
                </a:cubicBezTo>
                <a:cubicBezTo>
                  <a:pt x="962" y="697"/>
                  <a:pt x="989" y="672"/>
                  <a:pt x="989" y="672"/>
                </a:cubicBezTo>
                <a:cubicBezTo>
                  <a:pt x="996" y="651"/>
                  <a:pt x="999" y="631"/>
                  <a:pt x="1017" y="615"/>
                </a:cubicBezTo>
                <a:cubicBezTo>
                  <a:pt x="1035" y="600"/>
                  <a:pt x="1075" y="576"/>
                  <a:pt x="1075" y="576"/>
                </a:cubicBezTo>
                <a:cubicBezTo>
                  <a:pt x="1105" y="532"/>
                  <a:pt x="1134" y="490"/>
                  <a:pt x="1171" y="451"/>
                </a:cubicBezTo>
                <a:cubicBezTo>
                  <a:pt x="1180" y="397"/>
                  <a:pt x="1198" y="347"/>
                  <a:pt x="1238" y="307"/>
                </a:cubicBezTo>
                <a:cubicBezTo>
                  <a:pt x="1254" y="291"/>
                  <a:pt x="1270" y="275"/>
                  <a:pt x="1286" y="259"/>
                </a:cubicBezTo>
                <a:cubicBezTo>
                  <a:pt x="1296" y="250"/>
                  <a:pt x="1315" y="231"/>
                  <a:pt x="1315" y="231"/>
                </a:cubicBezTo>
                <a:cubicBezTo>
                  <a:pt x="1330" y="188"/>
                  <a:pt x="1347" y="195"/>
                  <a:pt x="1373" y="163"/>
                </a:cubicBezTo>
                <a:cubicBezTo>
                  <a:pt x="1397" y="134"/>
                  <a:pt x="1407" y="117"/>
                  <a:pt x="1440" y="96"/>
                </a:cubicBezTo>
                <a:cubicBezTo>
                  <a:pt x="1473" y="45"/>
                  <a:pt x="1522" y="29"/>
                  <a:pt x="1584" y="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53080" y="4495680"/>
            <a:ext cx="2362320" cy="1295640"/>
          </a:xfrm>
          <a:custGeom>
            <a:avLst/>
            <a:gdLst/>
            <a:ahLst/>
            <a:rect l="l" t="t" r="r" b="b"/>
            <a:pathLst>
              <a:path w="1584" h="816">
                <a:moveTo>
                  <a:pt x="0" y="0"/>
                </a:moveTo>
                <a:cubicBezTo>
                  <a:pt x="45" y="16"/>
                  <a:pt x="90" y="4"/>
                  <a:pt x="125" y="39"/>
                </a:cubicBezTo>
                <a:cubicBezTo>
                  <a:pt x="128" y="48"/>
                  <a:pt x="129" y="59"/>
                  <a:pt x="134" y="67"/>
                </a:cubicBezTo>
                <a:cubicBezTo>
                  <a:pt x="139" y="75"/>
                  <a:pt x="149" y="79"/>
                  <a:pt x="153" y="87"/>
                </a:cubicBezTo>
                <a:cubicBezTo>
                  <a:pt x="180" y="149"/>
                  <a:pt x="138" y="127"/>
                  <a:pt x="192" y="144"/>
                </a:cubicBezTo>
                <a:cubicBezTo>
                  <a:pt x="198" y="163"/>
                  <a:pt x="205" y="183"/>
                  <a:pt x="211" y="202"/>
                </a:cubicBezTo>
                <a:cubicBezTo>
                  <a:pt x="214" y="212"/>
                  <a:pt x="218" y="221"/>
                  <a:pt x="221" y="231"/>
                </a:cubicBezTo>
                <a:cubicBezTo>
                  <a:pt x="224" y="240"/>
                  <a:pt x="223" y="252"/>
                  <a:pt x="230" y="259"/>
                </a:cubicBezTo>
                <a:cubicBezTo>
                  <a:pt x="266" y="295"/>
                  <a:pt x="308" y="322"/>
                  <a:pt x="336" y="365"/>
                </a:cubicBezTo>
                <a:cubicBezTo>
                  <a:pt x="353" y="419"/>
                  <a:pt x="342" y="461"/>
                  <a:pt x="403" y="480"/>
                </a:cubicBezTo>
                <a:cubicBezTo>
                  <a:pt x="413" y="490"/>
                  <a:pt x="421" y="500"/>
                  <a:pt x="432" y="509"/>
                </a:cubicBezTo>
                <a:cubicBezTo>
                  <a:pt x="441" y="516"/>
                  <a:pt x="455" y="518"/>
                  <a:pt x="461" y="528"/>
                </a:cubicBezTo>
                <a:cubicBezTo>
                  <a:pt x="518" y="620"/>
                  <a:pt x="443" y="562"/>
                  <a:pt x="509" y="605"/>
                </a:cubicBezTo>
                <a:cubicBezTo>
                  <a:pt x="553" y="673"/>
                  <a:pt x="528" y="650"/>
                  <a:pt x="576" y="682"/>
                </a:cubicBezTo>
                <a:cubicBezTo>
                  <a:pt x="603" y="723"/>
                  <a:pt x="641" y="741"/>
                  <a:pt x="681" y="768"/>
                </a:cubicBezTo>
                <a:cubicBezTo>
                  <a:pt x="689" y="773"/>
                  <a:pt x="693" y="783"/>
                  <a:pt x="701" y="787"/>
                </a:cubicBezTo>
                <a:cubicBezTo>
                  <a:pt x="719" y="796"/>
                  <a:pt x="739" y="801"/>
                  <a:pt x="758" y="807"/>
                </a:cubicBezTo>
                <a:cubicBezTo>
                  <a:pt x="768" y="810"/>
                  <a:pt x="787" y="816"/>
                  <a:pt x="787" y="816"/>
                </a:cubicBezTo>
                <a:cubicBezTo>
                  <a:pt x="816" y="813"/>
                  <a:pt x="845" y="815"/>
                  <a:pt x="873" y="807"/>
                </a:cubicBezTo>
                <a:cubicBezTo>
                  <a:pt x="892" y="802"/>
                  <a:pt x="919" y="754"/>
                  <a:pt x="931" y="739"/>
                </a:cubicBezTo>
                <a:cubicBezTo>
                  <a:pt x="938" y="730"/>
                  <a:pt x="943" y="720"/>
                  <a:pt x="950" y="711"/>
                </a:cubicBezTo>
                <a:cubicBezTo>
                  <a:pt x="962" y="697"/>
                  <a:pt x="989" y="672"/>
                  <a:pt x="989" y="672"/>
                </a:cubicBezTo>
                <a:cubicBezTo>
                  <a:pt x="996" y="651"/>
                  <a:pt x="999" y="631"/>
                  <a:pt x="1017" y="615"/>
                </a:cubicBezTo>
                <a:cubicBezTo>
                  <a:pt x="1035" y="600"/>
                  <a:pt x="1075" y="576"/>
                  <a:pt x="1075" y="576"/>
                </a:cubicBezTo>
                <a:cubicBezTo>
                  <a:pt x="1105" y="532"/>
                  <a:pt x="1134" y="490"/>
                  <a:pt x="1171" y="451"/>
                </a:cubicBezTo>
                <a:cubicBezTo>
                  <a:pt x="1180" y="397"/>
                  <a:pt x="1198" y="347"/>
                  <a:pt x="1238" y="307"/>
                </a:cubicBezTo>
                <a:cubicBezTo>
                  <a:pt x="1254" y="291"/>
                  <a:pt x="1270" y="275"/>
                  <a:pt x="1286" y="259"/>
                </a:cubicBezTo>
                <a:cubicBezTo>
                  <a:pt x="1296" y="250"/>
                  <a:pt x="1315" y="231"/>
                  <a:pt x="1315" y="231"/>
                </a:cubicBezTo>
                <a:cubicBezTo>
                  <a:pt x="1330" y="188"/>
                  <a:pt x="1347" y="195"/>
                  <a:pt x="1373" y="163"/>
                </a:cubicBezTo>
                <a:cubicBezTo>
                  <a:pt x="1397" y="134"/>
                  <a:pt x="1407" y="117"/>
                  <a:pt x="1440" y="96"/>
                </a:cubicBezTo>
                <a:cubicBezTo>
                  <a:pt x="1473" y="45"/>
                  <a:pt x="1522" y="29"/>
                  <a:pt x="1584" y="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4343400"/>
            <a:ext cx="2438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39625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e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64160" y="4495680"/>
            <a:ext cx="2498760" cy="1236960"/>
          </a:xfrm>
          <a:custGeom>
            <a:avLst/>
            <a:gdLst/>
            <a:ahLst/>
            <a:rect l="l" t="t" r="r" b="b"/>
            <a:pathLst>
              <a:path w="1574" h="779">
                <a:moveTo>
                  <a:pt x="0" y="405"/>
                </a:moveTo>
                <a:cubicBezTo>
                  <a:pt x="23" y="480"/>
                  <a:pt x="28" y="505"/>
                  <a:pt x="96" y="549"/>
                </a:cubicBezTo>
                <a:cubicBezTo>
                  <a:pt x="106" y="582"/>
                  <a:pt x="119" y="601"/>
                  <a:pt x="144" y="626"/>
                </a:cubicBezTo>
                <a:cubicBezTo>
                  <a:pt x="158" y="669"/>
                  <a:pt x="180" y="689"/>
                  <a:pt x="220" y="702"/>
                </a:cubicBezTo>
                <a:cubicBezTo>
                  <a:pt x="227" y="709"/>
                  <a:pt x="235" y="714"/>
                  <a:pt x="240" y="722"/>
                </a:cubicBezTo>
                <a:cubicBezTo>
                  <a:pt x="245" y="730"/>
                  <a:pt x="241" y="744"/>
                  <a:pt x="249" y="750"/>
                </a:cubicBezTo>
                <a:cubicBezTo>
                  <a:pt x="285" y="776"/>
                  <a:pt x="370" y="776"/>
                  <a:pt x="403" y="779"/>
                </a:cubicBezTo>
                <a:cubicBezTo>
                  <a:pt x="425" y="776"/>
                  <a:pt x="448" y="777"/>
                  <a:pt x="470" y="770"/>
                </a:cubicBezTo>
                <a:cubicBezTo>
                  <a:pt x="499" y="761"/>
                  <a:pt x="502" y="743"/>
                  <a:pt x="518" y="722"/>
                </a:cubicBezTo>
                <a:cubicBezTo>
                  <a:pt x="545" y="688"/>
                  <a:pt x="565" y="655"/>
                  <a:pt x="585" y="616"/>
                </a:cubicBezTo>
                <a:cubicBezTo>
                  <a:pt x="612" y="562"/>
                  <a:pt x="594" y="540"/>
                  <a:pt x="652" y="501"/>
                </a:cubicBezTo>
                <a:cubicBezTo>
                  <a:pt x="673" y="440"/>
                  <a:pt x="703" y="383"/>
                  <a:pt x="758" y="347"/>
                </a:cubicBezTo>
                <a:cubicBezTo>
                  <a:pt x="799" y="286"/>
                  <a:pt x="813" y="280"/>
                  <a:pt x="864" y="232"/>
                </a:cubicBezTo>
                <a:cubicBezTo>
                  <a:pt x="867" y="219"/>
                  <a:pt x="866" y="205"/>
                  <a:pt x="873" y="194"/>
                </a:cubicBezTo>
                <a:cubicBezTo>
                  <a:pt x="883" y="178"/>
                  <a:pt x="912" y="155"/>
                  <a:pt x="912" y="155"/>
                </a:cubicBezTo>
                <a:cubicBezTo>
                  <a:pt x="934" y="84"/>
                  <a:pt x="902" y="166"/>
                  <a:pt x="950" y="107"/>
                </a:cubicBezTo>
                <a:cubicBezTo>
                  <a:pt x="982" y="68"/>
                  <a:pt x="930" y="82"/>
                  <a:pt x="988" y="50"/>
                </a:cubicBezTo>
                <a:cubicBezTo>
                  <a:pt x="1002" y="42"/>
                  <a:pt x="1085" y="8"/>
                  <a:pt x="1104" y="2"/>
                </a:cubicBezTo>
                <a:cubicBezTo>
                  <a:pt x="1158" y="5"/>
                  <a:pt x="1214" y="0"/>
                  <a:pt x="1267" y="11"/>
                </a:cubicBezTo>
                <a:cubicBezTo>
                  <a:pt x="1288" y="15"/>
                  <a:pt x="1303" y="57"/>
                  <a:pt x="1315" y="69"/>
                </a:cubicBezTo>
                <a:cubicBezTo>
                  <a:pt x="1332" y="86"/>
                  <a:pt x="1350" y="90"/>
                  <a:pt x="1372" y="98"/>
                </a:cubicBezTo>
                <a:cubicBezTo>
                  <a:pt x="1405" y="129"/>
                  <a:pt x="1398" y="167"/>
                  <a:pt x="1420" y="203"/>
                </a:cubicBezTo>
                <a:cubicBezTo>
                  <a:pt x="1430" y="219"/>
                  <a:pt x="1446" y="229"/>
                  <a:pt x="1459" y="242"/>
                </a:cubicBezTo>
                <a:cubicBezTo>
                  <a:pt x="1487" y="326"/>
                  <a:pt x="1471" y="280"/>
                  <a:pt x="1526" y="338"/>
                </a:cubicBezTo>
                <a:cubicBezTo>
                  <a:pt x="1540" y="378"/>
                  <a:pt x="1526" y="366"/>
                  <a:pt x="1574" y="366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ave Speed (v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fast a part of the wave mo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d 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 =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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as d /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s are in m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mplitude, Crest &amp; Trough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6095880" cy="3809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819520" y="2286000"/>
            <a:ext cx="6095880" cy="3809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62120" y="129528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plitude – ½ the wave heigt.  Determines the Pitch of sound or Volt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>
            <a:hlinkClick r:id="rId3"/>
          </p:cNvPr>
          <p:cNvSpPr/>
          <p:nvPr/>
        </p:nvSpPr>
        <p:spPr>
          <a:xfrm>
            <a:off x="3352680" y="5334120"/>
            <a:ext cx="1905120" cy="68580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s of a w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See Explanation.  Clicking on the picture will download &#10; the highest resolution version availabl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95520" y="1285920"/>
            <a:ext cx="59529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01:29:39Z</dcterms:created>
  <dc:creator>rrita</dc:creator>
  <dc:description/>
  <dc:language>en-US</dc:language>
  <cp:lastModifiedBy>rrita</cp:lastModifiedBy>
  <dcterms:modified xsi:type="dcterms:W3CDTF">2008-02-27T19:35:17Z</dcterms:modified>
  <cp:revision>7</cp:revision>
  <dc:subject/>
  <dc:title>Chapter 25 &amp; 26</dc:title>
</cp:coreProperties>
</file>