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1F4-B5EF-43AE-A09C-96B2B006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BA6-1B7A-40D9-B4F8-6AE27416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50E-AB08-4930-8FAF-A26416B1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5DD-E79B-4669-8AEF-773F6994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FBF-066F-4D95-84BC-20777AF7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74F-FE9D-4BF7-8E7D-04701A2D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F1B-D54C-43C2-8D36-DE6B27B4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BDF-EF9C-4151-946D-7E9F79C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559-55BE-454E-A628-5C2453F2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542-2B06-442E-A302-4A53BC6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F0D-162F-4D1B-B27A-7D8D794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D18-5DA9-430F-B725-F385AF30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583E-DEBB-4436-8F4E-E50C5FBB8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id.mind.net/~zona/mstm/physics/waves/partsOfAWave/wavePart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102/sonicboomplane_navy_bi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25 &amp;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s &amp;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st &amp;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iod (T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Time (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here for ON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s for a pendulum to swing out and back, peak to peak, trough to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quency (</a:t>
            </a:r>
            <a:r>
              <a:rPr b="0" i="1" lang="en-US" sz="4800" spc="-1" strike="noStrike">
                <a:solidFill>
                  <a:srgbClr val="ffff99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a wave occurs within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equ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408, Five times a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ll…..most of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Hertz (Hz),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s per seco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609588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6095880" cy="263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length (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s have a repeating pattern, the wavelength is the width of one of those repeating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in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495680"/>
            <a:ext cx="1798560" cy="1219320"/>
          </a:xfrm>
          <a:custGeom>
            <a:avLst/>
            <a:gdLst/>
            <a:ahLst/>
            <a:rect l="l" t="t" r="r" b="b"/>
            <a:pathLst>
              <a:path w="1133" h="768">
                <a:moveTo>
                  <a:pt x="0" y="768"/>
                </a:moveTo>
                <a:cubicBezTo>
                  <a:pt x="53" y="750"/>
                  <a:pt x="48" y="715"/>
                  <a:pt x="77" y="672"/>
                </a:cubicBezTo>
                <a:cubicBezTo>
                  <a:pt x="85" y="626"/>
                  <a:pt x="83" y="597"/>
                  <a:pt x="116" y="566"/>
                </a:cubicBezTo>
                <a:cubicBezTo>
                  <a:pt x="143" y="480"/>
                  <a:pt x="103" y="598"/>
                  <a:pt x="144" y="508"/>
                </a:cubicBezTo>
                <a:cubicBezTo>
                  <a:pt x="179" y="430"/>
                  <a:pt x="209" y="335"/>
                  <a:pt x="298" y="307"/>
                </a:cubicBezTo>
                <a:cubicBezTo>
                  <a:pt x="304" y="297"/>
                  <a:pt x="309" y="286"/>
                  <a:pt x="317" y="278"/>
                </a:cubicBezTo>
                <a:cubicBezTo>
                  <a:pt x="325" y="270"/>
                  <a:pt x="338" y="268"/>
                  <a:pt x="346" y="259"/>
                </a:cubicBezTo>
                <a:cubicBezTo>
                  <a:pt x="374" y="227"/>
                  <a:pt x="396" y="186"/>
                  <a:pt x="423" y="153"/>
                </a:cubicBezTo>
                <a:cubicBezTo>
                  <a:pt x="452" y="118"/>
                  <a:pt x="493" y="95"/>
                  <a:pt x="528" y="67"/>
                </a:cubicBezTo>
                <a:cubicBezTo>
                  <a:pt x="562" y="40"/>
                  <a:pt x="580" y="14"/>
                  <a:pt x="624" y="0"/>
                </a:cubicBezTo>
                <a:cubicBezTo>
                  <a:pt x="690" y="6"/>
                  <a:pt x="752" y="13"/>
                  <a:pt x="816" y="28"/>
                </a:cubicBezTo>
                <a:cubicBezTo>
                  <a:pt x="831" y="43"/>
                  <a:pt x="839" y="63"/>
                  <a:pt x="855" y="76"/>
                </a:cubicBezTo>
                <a:cubicBezTo>
                  <a:pt x="863" y="82"/>
                  <a:pt x="875" y="81"/>
                  <a:pt x="884" y="86"/>
                </a:cubicBezTo>
                <a:cubicBezTo>
                  <a:pt x="911" y="100"/>
                  <a:pt x="931" y="123"/>
                  <a:pt x="951" y="144"/>
                </a:cubicBezTo>
                <a:cubicBezTo>
                  <a:pt x="971" y="204"/>
                  <a:pt x="993" y="271"/>
                  <a:pt x="1047" y="307"/>
                </a:cubicBezTo>
                <a:cubicBezTo>
                  <a:pt x="1060" y="350"/>
                  <a:pt x="1086" y="374"/>
                  <a:pt x="1133" y="37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4572000"/>
            <a:ext cx="1844640" cy="1230480"/>
          </a:xfrm>
          <a:custGeom>
            <a:avLst/>
            <a:gdLst/>
            <a:ahLst/>
            <a:rect l="l" t="t" r="r" b="b"/>
            <a:pathLst>
              <a:path w="1162" h="775">
                <a:moveTo>
                  <a:pt x="0" y="423"/>
                </a:moveTo>
                <a:cubicBezTo>
                  <a:pt x="19" y="476"/>
                  <a:pt x="4" y="500"/>
                  <a:pt x="58" y="519"/>
                </a:cubicBezTo>
                <a:cubicBezTo>
                  <a:pt x="110" y="595"/>
                  <a:pt x="169" y="679"/>
                  <a:pt x="259" y="711"/>
                </a:cubicBezTo>
                <a:cubicBezTo>
                  <a:pt x="326" y="775"/>
                  <a:pt x="416" y="734"/>
                  <a:pt x="509" y="730"/>
                </a:cubicBezTo>
                <a:cubicBezTo>
                  <a:pt x="520" y="699"/>
                  <a:pt x="537" y="675"/>
                  <a:pt x="547" y="643"/>
                </a:cubicBezTo>
                <a:cubicBezTo>
                  <a:pt x="557" y="576"/>
                  <a:pt x="557" y="528"/>
                  <a:pt x="615" y="490"/>
                </a:cubicBezTo>
                <a:cubicBezTo>
                  <a:pt x="666" y="413"/>
                  <a:pt x="599" y="506"/>
                  <a:pt x="663" y="442"/>
                </a:cubicBezTo>
                <a:cubicBezTo>
                  <a:pt x="727" y="378"/>
                  <a:pt x="634" y="445"/>
                  <a:pt x="711" y="394"/>
                </a:cubicBezTo>
                <a:cubicBezTo>
                  <a:pt x="733" y="361"/>
                  <a:pt x="754" y="339"/>
                  <a:pt x="787" y="317"/>
                </a:cubicBezTo>
                <a:cubicBezTo>
                  <a:pt x="813" y="279"/>
                  <a:pt x="849" y="260"/>
                  <a:pt x="874" y="221"/>
                </a:cubicBezTo>
                <a:cubicBezTo>
                  <a:pt x="881" y="157"/>
                  <a:pt x="872" y="129"/>
                  <a:pt x="922" y="96"/>
                </a:cubicBezTo>
                <a:cubicBezTo>
                  <a:pt x="950" y="54"/>
                  <a:pt x="977" y="56"/>
                  <a:pt x="1027" y="39"/>
                </a:cubicBezTo>
                <a:cubicBezTo>
                  <a:pt x="1078" y="22"/>
                  <a:pt x="1107" y="0"/>
                  <a:pt x="116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3434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962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416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 Speed (v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a part of the wave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d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s are in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mplitude, Crest &amp; Trou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0958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1295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 – ½ the wave heigt.  Determines the Pitch of sound or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352680" y="5334120"/>
            <a:ext cx="190512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 of a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See Explanation.  Clicking on the picture will download 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5520" y="1285920"/>
            <a:ext cx="5952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29:39Z</dcterms:created>
  <dc:creator>rrita</dc:creator>
  <dc:description/>
  <dc:language>en-US</dc:language>
  <cp:lastModifiedBy>rrita</cp:lastModifiedBy>
  <dcterms:modified xsi:type="dcterms:W3CDTF">2008-02-27T19:35:17Z</dcterms:modified>
  <cp:revision>7</cp:revision>
  <dc:subject/>
  <dc:title>Chapter 25 &amp; 26</dc:title>
</cp:coreProperties>
</file>