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5FD4-2147-44EF-855E-892223F7E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F57A-5218-42FC-A1C6-A5C9029883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A4E-7518-4E6E-8223-5A0FBC576C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9C51-8077-4B1D-92DE-3C6908501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D84E-749D-4055-A21C-24EE6AA7EC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EE9-6A33-4EEB-828D-F3327456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BC5-BF40-42F5-A500-AF5CF0FC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D49-226F-4B5C-A73B-1D5326E6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5DC-E095-4534-BDA6-BF0672E2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A009-ED67-4360-8D02-F4E84FE9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B31B-E511-402E-9704-7B71B0F3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8EC7-4741-401C-94DF-01F7CBBA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CDFF-9ECE-4B31-A6B0-273A2B4D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FC38-510C-4E85-9D15-01619A5A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8101-AB17-406D-B7F3-E6111238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6E9-0230-4D18-866A-1A2599E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F77-578E-459E-8A19-1E4A6517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93D9-665D-4277-A70A-49493C92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E006-91E9-48C2-BBBE-695AE8DF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5EE-0CC1-4AE0-A1BA-506339E3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8B06-9BA2-439C-98B1-672DCC5F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7536-CB90-4DC0-8066-275BE681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05B-87D1-4238-9DC6-59BDDB06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1F2-5BDE-4DBF-8C86-FEC9FDF9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5CD-D595-4CA3-A0AD-2DAE1E73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AED-BA41-4694-BAC9-C9B054D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B52-F22E-43A9-AFED-754E04B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C35-F2B5-4B38-A444-1BC933B5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1F3-FBAF-47BE-8FEE-F6585D67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2331-A5F4-45DE-B8BE-F3F9EB81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989D-2A99-4003-8CD4-EC9B1E2493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2080" y="51958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÷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 rot="19946400">
            <a:off x="6962400" y="5698800"/>
            <a:ext cx="1816200" cy="78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inu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</a:t>
            </a:r>
            <a:r>
              <a:rPr b="0" lang="en-US" sz="3400" spc="-1" strike="noStrike">
                <a:solidFill>
                  <a:srgbClr val="ffc000"/>
                </a:solidFill>
                <a:latin typeface="Times New Roman"/>
              </a:rPr>
              <a:t>on the to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5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10cm, 1.5sec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4x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Monday (9/20/10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10-09-13T13:29:37Z</dcterms:modified>
  <cp:revision>109</cp:revision>
  <dc:subject/>
  <dc:title>Chapter 3 Scientific Measurement</dc:title>
</cp:coreProperties>
</file>