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B544-9256-4EA4-8BCD-9AE9D05E0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0F33-232E-4BC0-BE88-32177AE161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59C1-C503-495B-A640-65EAE22677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5490-5985-4F0D-9E49-02663FCF0E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DD1A-306A-447A-A36D-B91E536B94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396-6540-4AE0-BEE8-A71504F2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31A-7417-4F9A-B3BA-A117F8BD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2F2-30E9-4AB7-B42F-2CDB3779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694-57BA-44DE-B07F-2149C9A2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5BC-46A8-4843-BAB0-249494E9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30F5-CFAB-4CA2-88CF-2A30CDD6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ACD2-8F2B-4F5B-A5A3-D1A2C757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66D7-1287-47AB-993D-6F2255A4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8F79-AE9E-4EDF-8904-CC626AF7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1786-68B5-4C93-899B-1F851BC8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903A-C44D-4699-9D58-F11A4319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B4A-8235-487B-B6CA-0C3A0AEF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68E7-D8FC-456E-9DA9-E702B82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74BE-966D-4B8E-9C7D-FFBCD41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13FC-C05D-41E8-922F-69537513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C2D-FD9B-4708-83AF-3967C2CF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8F38-054F-435C-B8B2-B140E42B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5A1-62FD-463D-8C10-34654973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AAD-0D5E-4BA9-8EEB-9609EBA6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337-FA8B-459A-AA51-14E9B07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E32-60A1-4760-9B39-814012B7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50E-B7C4-47BA-9A32-DB9D9B5E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55F-A099-409B-9951-863E994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2F7-0D9D-4DA5-B9B6-1081463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7601-ACF8-4BE6-8102-814543840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9CCE-C4AD-497C-B14B-0F93F3A531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2080" y="51958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÷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6"/>
          <p:cNvSpPr/>
          <p:nvPr/>
        </p:nvSpPr>
        <p:spPr>
          <a:xfrm rot="19946400">
            <a:off x="6962400" y="5698800"/>
            <a:ext cx="1816200" cy="78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o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inu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</a:t>
            </a:r>
            <a:r>
              <a:rPr b="0" lang="en-US" sz="3400" spc="-1" strike="noStrike">
                <a:solidFill>
                  <a:srgbClr val="ffc000"/>
                </a:solidFill>
                <a:latin typeface="Times New Roman"/>
              </a:rPr>
              <a:t>on the to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5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10cm, 1.5sec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4x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Monday (9/20/10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10-09-13T13:29:37Z</dcterms:modified>
  <cp:revision>109</cp:revision>
  <dc:subject/>
  <dc:title>Chapter 3 Scientific Measurement</dc:title>
</cp:coreProperties>
</file>