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2.gif" ContentType="image/gif"/>
  <Override PartName="/ppt/media/image9.png" ContentType="image/png"/>
  <Override PartName="/ppt/media/image7.png" ContentType="image/png"/>
  <Override PartName="/ppt/media/image13.jpeg" ContentType="image/jpeg"/>
  <Override PartName="/ppt/media/image4.png" ContentType="image/png"/>
  <Override PartName="/ppt/media/image12.jpeg" ContentType="image/jpeg"/>
  <Override PartName="/ppt/media/image22.png" ContentType="image/png"/>
  <Override PartName="/ppt/media/image21.png" ContentType="image/png"/>
  <Override PartName="/ppt/media/image20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6.png" ContentType="image/png"/>
  <Override PartName="/ppt/media/image19.jpeg" ContentType="image/jpe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70F92-5273-4809-B595-9C02CE3FF5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E026D-64CC-47E4-96BE-31B49680D68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Times New Roman"/>
              </a:rPr>
              <a:t>Full screen view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– click screen in lower right corner (Internet Explorer 4.0 &amp; high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7DAD6-A78D-4C9F-9415-51231470F80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734C1-1B53-4B7C-884B-BE30A010462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C7B9B-E388-4CBA-94E0-9E41D52E827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21E7-CC66-43BE-937C-2F20EFAAC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9A03-2037-43CC-B629-B09BCADC0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097D-466F-41A4-8A66-5DA5795D4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0F70-6F33-40D8-A083-78058C9A0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381C2-CAAD-46A3-9895-C150B8679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FA291-D81C-418F-92AB-B3045BFC0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C6BEA-6F90-4D75-81A5-77D7D4548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E5DF4-E9FC-48EC-BC9A-27827AF52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C51AD-413C-4A60-A167-F2A1702F4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C2623-0F32-40F4-A89F-9F0A67981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8BA9A-83F2-41DB-8478-8062F3215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4526-C89B-4E0E-8AFD-F4B685197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FC760-E441-4EE7-84D6-CECD56AFB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97BBA-D70C-46AB-94D9-7FAA84E1C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64072-FA39-4716-B62D-CAAB0F080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5882E-BBA0-4B92-8CD5-79C97A0FD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169D0-1C34-4FC5-8704-6C0ADE11C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8AD4-4EF1-437A-986F-52A29BEAF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E0EE-C750-4FF0-9A65-EC6454FAC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788A-DC26-49AE-A69D-F34F70283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5020-D12E-44FD-A888-CBD5986B6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CF66-B361-4046-B333-C70C0E042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6087-8C9D-4A35-B579-AF8E66C7E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BC4B-5C91-4C10-B236-5A31EE93A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3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>
                <a:gd name="textAreaLeft" fmla="*/ 0 w 2757240"/>
                <a:gd name="textAreaRight" fmla="*/ 2757600 w 2757240"/>
                <a:gd name="textAreaTop" fmla="*/ 0 h 6878160"/>
                <a:gd name="textAreaBottom" fmla="*/ 6878520 h 6878160"/>
              </a:gdLst>
              <a:ahLst/>
              <a:rect l="textAreaLeft" t="textAreaTop" r="textAreaRight" b="textAreaBottom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>
                <a:gd name="textAreaLeft" fmla="*/ 0 w 2757600"/>
                <a:gd name="textAreaRight" fmla="*/ 2757960 w 2757600"/>
                <a:gd name="textAreaTop" fmla="*/ 0 h 6872040"/>
                <a:gd name="textAreaBottom" fmla="*/ 6872400 h 6872040"/>
              </a:gdLst>
              <a:ahLst/>
              <a:rect l="textAreaLeft" t="textAreaTop" r="textAreaRight" b="textAreaBottom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>
                <a:gd name="textAreaLeft" fmla="*/ 0 w 2760840"/>
                <a:gd name="textAreaRight" fmla="*/ 2761200 w 2760840"/>
                <a:gd name="textAreaTop" fmla="*/ 0 h 6873480"/>
                <a:gd name="textAreaBottom" fmla="*/ 6873840 h 6873480"/>
              </a:gdLst>
              <a:ahLst/>
              <a:rect l="textAreaLeft" t="textAreaTop" r="textAreaRight" b="textAreaBottom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>
                <a:gd name="textAreaLeft" fmla="*/ 0 w 3301920"/>
                <a:gd name="textAreaRight" fmla="*/ 3302280 w 3301920"/>
                <a:gd name="textAreaTop" fmla="*/ 0 h 6864120"/>
                <a:gd name="textAreaBottom" fmla="*/ 6864480 h 6864120"/>
              </a:gdLst>
              <a:ahLst/>
              <a:rect l="textAreaLeft" t="textAreaTop" r="textAreaRight" b="textAreaBottom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>
                <a:gd name="textAreaLeft" fmla="*/ 0 w 5562720"/>
                <a:gd name="textAreaRight" fmla="*/ 5562720 w 5562720"/>
                <a:gd name="textAreaTop" fmla="*/ 0 h 2437920"/>
                <a:gd name="textAreaBottom" fmla="*/ 2438280 h 243792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>
                <a:gd name="textAreaLeft" fmla="*/ 360 w 4038480"/>
                <a:gd name="textAreaRight" fmla="*/ 4039200 w 4038480"/>
                <a:gd name="textAreaTop" fmla="*/ 0 h 1600200"/>
                <a:gd name="textAreaBottom" fmla="*/ 1600560 h 160020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>
                <a:gd name="textAreaLeft" fmla="*/ 0 w 5562720"/>
                <a:gd name="textAreaRight" fmla="*/ 5562720 w 5562720"/>
                <a:gd name="textAreaTop" fmla="*/ 0 h 2437920"/>
                <a:gd name="textAreaBottom" fmla="*/ 2438280 h 243792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>
                <a:gd name="textAreaLeft" fmla="*/ 0 w 5562360"/>
                <a:gd name="textAreaRight" fmla="*/ 5562720 w 5562360"/>
                <a:gd name="textAreaTop" fmla="*/ 0 h 2438280"/>
                <a:gd name="textAreaBottom" fmla="*/ 2438640 h 243828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>
                <a:gd name="textAreaLeft" fmla="*/ 0 w 5705640"/>
                <a:gd name="textAreaRight" fmla="*/ 5706000 w 5705640"/>
                <a:gd name="textAreaTop" fmla="*/ 0 h 2754000"/>
                <a:gd name="textAreaBottom" fmla="*/ 2754360 h 275400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>
                <a:gd name="textAreaLeft" fmla="*/ -360 w 5562360"/>
                <a:gd name="textAreaRight" fmla="*/ 5562360 w 5562360"/>
                <a:gd name="textAreaTop" fmla="*/ 0 h 2438280"/>
                <a:gd name="textAreaBottom" fmla="*/ 2438640 h 243828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>
                <a:gd name="textAreaLeft" fmla="*/ 0 w 1729080"/>
                <a:gd name="textAreaRight" fmla="*/ 1729440 w 1729080"/>
                <a:gd name="textAreaTop" fmla="*/ 0 h 3627000"/>
                <a:gd name="textAreaBottom" fmla="*/ 3627360 h 3627000"/>
              </a:gdLst>
              <a:ahLst/>
              <a:rect l="textAreaLeft" t="textAreaTop" r="textAreaRight" b="textAreaBottom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>
                <a:gd name="textAreaLeft" fmla="*/ 0 w 2757240"/>
                <a:gd name="textAreaRight" fmla="*/ 2757600 w 2757240"/>
                <a:gd name="textAreaTop" fmla="*/ 0 h 605880"/>
                <a:gd name="textAreaBottom" fmla="*/ 606240 h 605880"/>
              </a:gdLst>
              <a:ahLst/>
              <a:rect l="textAreaLeft" t="textAreaTop" r="textAreaRight" b="textAreaBottom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>
                <a:gd name="textAreaLeft" fmla="*/ 0 w 2757600"/>
                <a:gd name="textAreaRight" fmla="*/ 2757960 w 2757600"/>
                <a:gd name="textAreaTop" fmla="*/ 0 h 604440"/>
                <a:gd name="textAreaBottom" fmla="*/ 604800 h 604440"/>
              </a:gdLst>
              <a:ahLst/>
              <a:rect l="textAreaLeft" t="textAreaTop" r="textAreaRight" b="textAreaBottom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>
                <a:gd name="textAreaLeft" fmla="*/ 0 w 2760840"/>
                <a:gd name="textAreaRight" fmla="*/ 2761200 w 2760840"/>
                <a:gd name="textAreaTop" fmla="*/ 0 h 605880"/>
                <a:gd name="textAreaBottom" fmla="*/ 606240 h 605880"/>
              </a:gdLst>
              <a:ahLst/>
              <a:rect l="textAreaLeft" t="textAreaTop" r="textAreaRight" b="textAreaBottom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>
                <a:gd name="textAreaLeft" fmla="*/ 0 w 3301920"/>
                <a:gd name="textAreaRight" fmla="*/ 3302280 w 3301920"/>
                <a:gd name="textAreaTop" fmla="*/ 0 h 604440"/>
                <a:gd name="textAreaBottom" fmla="*/ 604800 h 604440"/>
              </a:gdLst>
              <a:ahLst/>
              <a:rect l="textAreaLeft" t="textAreaTop" r="textAreaRight" b="textAreaBottom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>
                <a:gd name="textAreaLeft" fmla="*/ 0 w 1644840"/>
                <a:gd name="textAreaRight" fmla="*/ 1645200 w 1644840"/>
                <a:gd name="textAreaTop" fmla="*/ 0 h 666360"/>
                <a:gd name="textAreaBottom" fmla="*/ 666720 h 666360"/>
              </a:gdLst>
              <a:ahLst/>
              <a:rect l="textAreaLeft" t="textAreaTop" r="textAreaRight" b="textAreaBottom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>
                <a:gd name="textAreaLeft" fmla="*/ 360 w 1682640"/>
                <a:gd name="textAreaRight" fmla="*/ 1683360 w 1682640"/>
                <a:gd name="textAreaTop" fmla="*/ 0 h 762120"/>
                <a:gd name="textAreaBottom" fmla="*/ 762480 h 76212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>
                <a:gd name="textAreaLeft" fmla="*/ 360 w 1682640"/>
                <a:gd name="textAreaRight" fmla="*/ 1683360 w 1682640"/>
                <a:gd name="textAreaTop" fmla="*/ 0 h 762120"/>
                <a:gd name="textAreaBottom" fmla="*/ 762480 h 76212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>
                <a:gd name="textAreaLeft" fmla="*/ -360 w 1641240"/>
                <a:gd name="textAreaRight" fmla="*/ 1641240 w 1641240"/>
                <a:gd name="textAreaTop" fmla="*/ 0 h 772920"/>
                <a:gd name="textAreaBottom" fmla="*/ 773280 h 77292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>
                <a:gd name="textAreaLeft" fmla="*/ -360 w 5638680"/>
                <a:gd name="textAreaRight" fmla="*/ 5638680 w 5638680"/>
                <a:gd name="textAreaTop" fmla="*/ 360 h 685440"/>
                <a:gd name="textAreaBottom" fmla="*/ 686160 h 68544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>
                <a:gd name="textAreaLeft" fmla="*/ 360 w 2438640"/>
                <a:gd name="textAreaRight" fmla="*/ 2439360 w 2438640"/>
                <a:gd name="textAreaTop" fmla="*/ 360 h 685440"/>
                <a:gd name="textAreaBottom" fmla="*/ 686160 h 68544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>
                <a:gd name="textAreaLeft" fmla="*/ 360 w 2114640"/>
                <a:gd name="textAreaRight" fmla="*/ 2115360 w 2114640"/>
                <a:gd name="textAreaTop" fmla="*/ 360 h 607680"/>
                <a:gd name="textAreaBottom" fmla="*/ 608400 h 60768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>
                <a:gd name="textAreaLeft" fmla="*/ 360 w 2438640"/>
                <a:gd name="textAreaRight" fmla="*/ 2439360 w 2438640"/>
                <a:gd name="textAreaTop" fmla="*/ 360 h 685440"/>
                <a:gd name="textAreaBottom" fmla="*/ 686160 h 68544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>
                <a:gd name="textAreaLeft" fmla="*/ 360 w 3657600"/>
                <a:gd name="textAreaRight" fmla="*/ 3658320 w 3657600"/>
                <a:gd name="textAreaTop" fmla="*/ 360 h 685440"/>
                <a:gd name="textAreaBottom" fmla="*/ 686160 h 68544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8FA43-01CA-4653-96F1-848A20F668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2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3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>
                <a:gd name="textAreaLeft" fmla="*/ 0 w 2757240"/>
                <a:gd name="textAreaRight" fmla="*/ 2757600 w 2757240"/>
                <a:gd name="textAreaTop" fmla="*/ 0 h 6878520"/>
                <a:gd name="textAreaBottom" fmla="*/ 6878880 h 6878520"/>
              </a:gdLst>
              <a:ahLst/>
              <a:rect l="textAreaLeft" t="textAreaTop" r="textAreaRight" b="textAreaBottom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Freeform 4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>
                <a:gd name="textAreaLeft" fmla="*/ 0 w 2757600"/>
                <a:gd name="textAreaRight" fmla="*/ 2757960 w 2757600"/>
                <a:gd name="textAreaTop" fmla="*/ 0 h 6872400"/>
                <a:gd name="textAreaBottom" fmla="*/ 6872760 h 6872400"/>
              </a:gdLst>
              <a:ahLst/>
              <a:rect l="textAreaLeft" t="textAreaTop" r="textAreaRight" b="textAreaBottom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5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>
                <a:gd name="textAreaLeft" fmla="*/ 0 w 2760840"/>
                <a:gd name="textAreaRight" fmla="*/ 2761200 w 2760840"/>
                <a:gd name="textAreaTop" fmla="*/ 0 h 6873840"/>
                <a:gd name="textAreaBottom" fmla="*/ 6874200 h 6873840"/>
              </a:gdLst>
              <a:ahLst/>
              <a:rect l="textAreaLeft" t="textAreaTop" r="textAreaRight" b="textAreaBottom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6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>
                <a:gd name="textAreaLeft" fmla="*/ 0 w 3301920"/>
                <a:gd name="textAreaRight" fmla="*/ 3302280 w 3301920"/>
                <a:gd name="textAreaTop" fmla="*/ 0 h 6864480"/>
                <a:gd name="textAreaBottom" fmla="*/ 6864840 h 6864480"/>
              </a:gdLst>
              <a:ahLst/>
              <a:rect l="textAreaLeft" t="textAreaTop" r="textAreaRight" b="textAreaBottom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7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>
                <a:gd name="textAreaLeft" fmla="*/ 0 w 5562720"/>
                <a:gd name="textAreaRight" fmla="*/ 5562720 w 5562720"/>
                <a:gd name="textAreaTop" fmla="*/ 0 h 2438280"/>
                <a:gd name="textAreaBottom" fmla="*/ 2438640 h 243828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8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>
                <a:gd name="textAreaLeft" fmla="*/ -360 w 4038840"/>
                <a:gd name="textAreaRight" fmla="*/ 4038840 w 4038840"/>
                <a:gd name="textAreaTop" fmla="*/ 0 h 1600200"/>
                <a:gd name="textAreaBottom" fmla="*/ 1600560 h 160020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9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>
                <a:gd name="textAreaLeft" fmla="*/ 0 w 5562720"/>
                <a:gd name="textAreaRight" fmla="*/ 5562720 w 5562720"/>
                <a:gd name="textAreaTop" fmla="*/ 0 h 2438280"/>
                <a:gd name="textAreaBottom" fmla="*/ 2438640 h 243828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0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>
                <a:gd name="textAreaLeft" fmla="*/ 0 w 5562720"/>
                <a:gd name="textAreaRight" fmla="*/ 5562720 w 5562720"/>
                <a:gd name="textAreaTop" fmla="*/ 0 h 2438280"/>
                <a:gd name="textAreaBottom" fmla="*/ 2438640 h 243828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11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>
                <a:gd name="textAreaLeft" fmla="*/ 0 w 5705640"/>
                <a:gd name="textAreaRight" fmla="*/ 5706000 w 5705640"/>
                <a:gd name="textAreaTop" fmla="*/ 0 h 2754360"/>
                <a:gd name="textAreaBottom" fmla="*/ 2754360 h 275436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Freeform 12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>
                <a:gd name="textAreaLeft" fmla="*/ -360 w 5562360"/>
                <a:gd name="textAreaRight" fmla="*/ 5562360 w 5562360"/>
                <a:gd name="textAreaTop" fmla="*/ 0 h 2438640"/>
                <a:gd name="textAreaBottom" fmla="*/ 2439000 h 243864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Freeform 13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>
                <a:gd name="textAreaLeft" fmla="*/ 0 w 1729080"/>
                <a:gd name="textAreaRight" fmla="*/ 1729440 w 1729080"/>
                <a:gd name="textAreaTop" fmla="*/ 0 h 3627360"/>
                <a:gd name="textAreaBottom" fmla="*/ 3627720 h 3627360"/>
              </a:gdLst>
              <a:ahLst/>
              <a:rect l="textAreaLeft" t="textAreaTop" r="textAreaRight" b="textAreaBottom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Rectangle 14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Freeform 15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>
                <a:gd name="textAreaLeft" fmla="*/ 0 w 2757240"/>
                <a:gd name="textAreaRight" fmla="*/ 2757600 w 2757240"/>
                <a:gd name="textAreaTop" fmla="*/ 0 h 606240"/>
                <a:gd name="textAreaBottom" fmla="*/ 606600 h 606240"/>
              </a:gdLst>
              <a:ahLst/>
              <a:rect l="textAreaLeft" t="textAreaTop" r="textAreaRight" b="textAreaBottom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Freeform 16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>
                <a:gd name="textAreaLeft" fmla="*/ 0 w 2757600"/>
                <a:gd name="textAreaRight" fmla="*/ 2757960 w 2757600"/>
                <a:gd name="textAreaTop" fmla="*/ 0 h 604800"/>
                <a:gd name="textAreaBottom" fmla="*/ 605160 h 604800"/>
              </a:gdLst>
              <a:ahLst/>
              <a:rect l="textAreaLeft" t="textAreaTop" r="textAreaRight" b="textAreaBottom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Freeform 17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>
                <a:gd name="textAreaLeft" fmla="*/ 0 w 2760840"/>
                <a:gd name="textAreaRight" fmla="*/ 2761200 w 2760840"/>
                <a:gd name="textAreaTop" fmla="*/ 0 h 606240"/>
                <a:gd name="textAreaBottom" fmla="*/ 606600 h 606240"/>
              </a:gdLst>
              <a:ahLst/>
              <a:rect l="textAreaLeft" t="textAreaTop" r="textAreaRight" b="textAreaBottom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Freeform 18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>
                <a:gd name="textAreaLeft" fmla="*/ 0 w 3301920"/>
                <a:gd name="textAreaRight" fmla="*/ 3302280 w 3301920"/>
                <a:gd name="textAreaTop" fmla="*/ 0 h 604800"/>
                <a:gd name="textAreaBottom" fmla="*/ 605160 h 604800"/>
              </a:gdLst>
              <a:ahLst/>
              <a:rect l="textAreaLeft" t="textAreaTop" r="textAreaRight" b="textAreaBottom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Rectangle 19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Freeform 20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>
                <a:gd name="textAreaLeft" fmla="*/ 0 w 1644840"/>
                <a:gd name="textAreaRight" fmla="*/ 1645200 w 164484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21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>
                <a:gd name="textAreaLeft" fmla="*/ -360 w 1683000"/>
                <a:gd name="textAreaRight" fmla="*/ 1683000 w 1683000"/>
                <a:gd name="textAreaTop" fmla="*/ 0 h 761760"/>
                <a:gd name="textAreaBottom" fmla="*/ 762120 h 76176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Freeform 22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>
                <a:gd name="textAreaLeft" fmla="*/ -360 w 1683000"/>
                <a:gd name="textAreaRight" fmla="*/ 1683000 w 1683000"/>
                <a:gd name="textAreaTop" fmla="*/ 0 h 761760"/>
                <a:gd name="textAreaBottom" fmla="*/ 762120 h 76176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Freeform 23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>
                <a:gd name="textAreaLeft" fmla="*/ 360 w 1641600"/>
                <a:gd name="textAreaRight" fmla="*/ 1642320 w 1641600"/>
                <a:gd name="textAreaTop" fmla="*/ 0 h 772920"/>
                <a:gd name="textAreaBottom" fmla="*/ 773280 h 77292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Freeform 24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>
                <a:gd name="textAreaLeft" fmla="*/ -360 w 5638680"/>
                <a:gd name="textAreaRight" fmla="*/ 5638680 w 5638680"/>
                <a:gd name="textAreaTop" fmla="*/ -360 h 685800"/>
                <a:gd name="textAreaBottom" fmla="*/ 685800 h 68580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Freeform 25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>
                <a:gd name="textAreaLeft" fmla="*/ 360 w 2438640"/>
                <a:gd name="textAreaRight" fmla="*/ 2439360 w 2438640"/>
                <a:gd name="textAreaTop" fmla="*/ -360 h 685800"/>
                <a:gd name="textAreaBottom" fmla="*/ 685800 h 68580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Freeform 26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>
                <a:gd name="textAreaLeft" fmla="*/ 360 w 2114640"/>
                <a:gd name="textAreaRight" fmla="*/ 2115360 w 2114640"/>
                <a:gd name="textAreaTop" fmla="*/ -360 h 608040"/>
                <a:gd name="textAreaBottom" fmla="*/ 608040 h 60804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Freeform 27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>
                <a:gd name="textAreaLeft" fmla="*/ 360 w 2438640"/>
                <a:gd name="textAreaRight" fmla="*/ 2439360 w 2438640"/>
                <a:gd name="textAreaTop" fmla="*/ -360 h 685800"/>
                <a:gd name="textAreaBottom" fmla="*/ 685800 h 68580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Freeform 28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>
                <a:gd name="textAreaLeft" fmla="*/ 360 w 3657600"/>
                <a:gd name="textAreaRight" fmla="*/ 3658320 w 3657600"/>
                <a:gd name="textAreaTop" fmla="*/ -360 h 685800"/>
                <a:gd name="textAreaBottom" fmla="*/ 685800 h 68580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Rectangle 29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Rectangle 30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Rectangle 31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Picture 32" descr="BTZBUL1A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CDA47-4A57-4E0F-B193-7B7678A22B2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520200"/>
            <a:ext cx="7772400" cy="76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Measurement PP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685800" y="13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ing a sheet of paper, take notes on this PowerPoint, and complete the indicated assignme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e pages are indicated b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lculations or answer pages b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ce finished, hand in your calculaitons and answers page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may work with a partner, but each of you must hand in an assign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Flowchart: Document 3"/>
          <p:cNvSpPr/>
          <p:nvPr/>
        </p:nvSpPr>
        <p:spPr>
          <a:xfrm>
            <a:off x="6392880" y="2854440"/>
            <a:ext cx="1319040" cy="658800"/>
          </a:xfrm>
          <a:prstGeom prst="flowChartDocument">
            <a:avLst/>
          </a:prstGeom>
          <a:solidFill>
            <a:srgbClr val="ff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Oval 5"/>
          <p:cNvSpPr/>
          <p:nvPr/>
        </p:nvSpPr>
        <p:spPr>
          <a:xfrm>
            <a:off x="7189920" y="3467160"/>
            <a:ext cx="704880" cy="7030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Accuracy, Precision, and Error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79360" y="1630080"/>
            <a:ext cx="85996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- Error describes how accurate your measurement can possibly be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- For any measuring device, error is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+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1/2 of the smallest division on the devic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 thermometer has an error of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+ ½ 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Flowchart: Document 3"/>
          <p:cNvSpPr/>
          <p:nvPr/>
        </p:nvSpPr>
        <p:spPr>
          <a:xfrm>
            <a:off x="7824960" y="495360"/>
            <a:ext cx="1319040" cy="658800"/>
          </a:xfrm>
          <a:prstGeom prst="flowChartDocument">
            <a:avLst/>
          </a:prstGeom>
          <a:solidFill>
            <a:srgbClr val="ff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What is the accepted error on this flask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84" name="Picture 4" descr="http://www.micro-science.co.uk/shop/catalog/images/erlenmeyer.jpg"/>
          <p:cNvPicPr/>
          <p:nvPr/>
        </p:nvPicPr>
        <p:blipFill>
          <a:blip r:embed="rId1"/>
          <a:stretch/>
        </p:blipFill>
        <p:spPr>
          <a:xfrm>
            <a:off x="3103560" y="1940040"/>
            <a:ext cx="2727360" cy="4233600"/>
          </a:xfrm>
          <a:prstGeom prst="rect">
            <a:avLst/>
          </a:prstGeom>
          <a:ln w="0">
            <a:noFill/>
          </a:ln>
        </p:spPr>
      </p:pic>
      <p:sp>
        <p:nvSpPr>
          <p:cNvPr id="185" name="Oval 5"/>
          <p:cNvSpPr/>
          <p:nvPr/>
        </p:nvSpPr>
        <p:spPr>
          <a:xfrm>
            <a:off x="7794720" y="2352600"/>
            <a:ext cx="704880" cy="7048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43000" y="186840"/>
            <a:ext cx="8712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Why Is there Uncertainty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585720" y="892080"/>
            <a:ext cx="820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asurements are performed with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instrument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and no instrument can read to an infinite number of decimal pla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8" name="Picture 4" descr="scale"/>
          <p:cNvPicPr/>
          <p:nvPr/>
        </p:nvPicPr>
        <p:blipFill>
          <a:blip r:embed="rId1"/>
          <a:stretch/>
        </p:blipFill>
        <p:spPr>
          <a:xfrm>
            <a:off x="3429000" y="3505320"/>
            <a:ext cx="2835360" cy="3352680"/>
          </a:xfrm>
          <a:prstGeom prst="rect">
            <a:avLst/>
          </a:prstGeom>
          <a:ln w="19080">
            <a:solidFill>
              <a:srgbClr val="ffff00"/>
            </a:solidFill>
            <a:miter/>
          </a:ln>
        </p:spPr>
      </p:pic>
      <p:sp>
        <p:nvSpPr>
          <p:cNvPr id="189" name="Text Box 5"/>
          <p:cNvSpPr/>
          <p:nvPr/>
        </p:nvSpPr>
        <p:spPr>
          <a:xfrm>
            <a:off x="604800" y="2374920"/>
            <a:ext cx="8202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Which of the balances below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has the greatest uncertainty in measuremen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0" name="Picture 6" descr="scale4"/>
          <p:cNvPicPr/>
          <p:nvPr/>
        </p:nvPicPr>
        <p:blipFill>
          <a:blip r:embed="rId2"/>
          <a:stretch/>
        </p:blipFill>
        <p:spPr>
          <a:xfrm>
            <a:off x="162000" y="4191120"/>
            <a:ext cx="3114720" cy="2076480"/>
          </a:xfrm>
          <a:prstGeom prst="rect">
            <a:avLst/>
          </a:prstGeom>
          <a:ln w="19080">
            <a:solidFill>
              <a:srgbClr val="ffff00"/>
            </a:solidFill>
            <a:miter/>
          </a:ln>
        </p:spPr>
      </p:pic>
      <p:pic>
        <p:nvPicPr>
          <p:cNvPr id="191" name="Picture 7" descr="scale8"/>
          <p:cNvPicPr/>
          <p:nvPr/>
        </p:nvPicPr>
        <p:blipFill>
          <a:blip r:embed="rId3"/>
          <a:stretch/>
        </p:blipFill>
        <p:spPr>
          <a:xfrm>
            <a:off x="6400800" y="3809880"/>
            <a:ext cx="2540160" cy="2540160"/>
          </a:xfrm>
          <a:prstGeom prst="rect">
            <a:avLst/>
          </a:prstGeom>
          <a:ln w="19080">
            <a:solidFill>
              <a:srgbClr val="ffff00"/>
            </a:solidFill>
            <a:miter/>
          </a:ln>
        </p:spPr>
      </p:pic>
      <p:pic>
        <p:nvPicPr>
          <p:cNvPr id="192" name="Rectangle 8" descr=""/>
          <p:cNvPicPr/>
          <p:nvPr/>
        </p:nvPicPr>
        <p:blipFill>
          <a:blip r:embed="rId4"/>
          <a:stretch/>
        </p:blipFill>
        <p:spPr>
          <a:xfrm>
            <a:off x="1073160" y="3627360"/>
            <a:ext cx="1450800" cy="1139760"/>
          </a:xfrm>
          <a:prstGeom prst="rect">
            <a:avLst/>
          </a:prstGeom>
          <a:ln w="0">
            <a:noFill/>
          </a:ln>
        </p:spPr>
      </p:pic>
      <p:pic>
        <p:nvPicPr>
          <p:cNvPr id="193" name="Rectangle 9" descr=""/>
          <p:cNvPicPr/>
          <p:nvPr/>
        </p:nvPicPr>
        <p:blipFill>
          <a:blip r:embed="rId5"/>
          <a:stretch/>
        </p:blipFill>
        <p:spPr>
          <a:xfrm>
            <a:off x="4029120" y="3133800"/>
            <a:ext cx="1407960" cy="1139760"/>
          </a:xfrm>
          <a:prstGeom prst="rect">
            <a:avLst/>
          </a:prstGeom>
          <a:ln w="0">
            <a:noFill/>
          </a:ln>
        </p:spPr>
      </p:pic>
      <p:pic>
        <p:nvPicPr>
          <p:cNvPr id="194" name="Rectangle 10" descr=""/>
          <p:cNvPicPr/>
          <p:nvPr/>
        </p:nvPicPr>
        <p:blipFill>
          <a:blip r:embed="rId6"/>
          <a:stretch/>
        </p:blipFill>
        <p:spPr>
          <a:xfrm>
            <a:off x="6997680" y="3164040"/>
            <a:ext cx="1451160" cy="1139760"/>
          </a:xfrm>
          <a:prstGeom prst="rect">
            <a:avLst/>
          </a:prstGeom>
          <a:ln w="0">
            <a:noFill/>
          </a:ln>
        </p:spPr>
      </p:pic>
      <p:sp>
        <p:nvSpPr>
          <p:cNvPr id="195" name="Oval 13"/>
          <p:cNvSpPr/>
          <p:nvPr/>
        </p:nvSpPr>
        <p:spPr>
          <a:xfrm>
            <a:off x="7974000" y="2338560"/>
            <a:ext cx="704880" cy="7045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Rounding Calculated Answer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66320" y="1364760"/>
            <a:ext cx="8977320" cy="502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2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 u="sng">
                <a:solidFill>
                  <a:srgbClr val="ffffff"/>
                </a:solidFill>
                <a:uFillTx/>
                <a:latin typeface="Arial"/>
              </a:rPr>
              <a:t>Rounding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Arial"/>
              </a:rPr>
              <a:t>For Mr. Rita’s class, you will round all measurements and calculations to no more than 2 decimal places.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66800" y="2646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Rounding Practic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100800" y="1752480"/>
            <a:ext cx="299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. 3.24 m x 7.2 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518040" y="1143000"/>
            <a:ext cx="21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9900"/>
                </a:solidFill>
                <a:uFillTx/>
                <a:latin typeface="Comic Sans MS"/>
              </a:rPr>
              <a:t>Calcul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Text Box 5"/>
          <p:cNvSpPr/>
          <p:nvPr/>
        </p:nvSpPr>
        <p:spPr>
          <a:xfrm>
            <a:off x="3957840" y="1143000"/>
            <a:ext cx="49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9900"/>
                </a:solidFill>
                <a:uFillTx/>
                <a:latin typeface="Comic Sans MS"/>
              </a:rPr>
              <a:t>Rounded Numeric Answer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Text Box 9"/>
          <p:cNvSpPr/>
          <p:nvPr/>
        </p:nvSpPr>
        <p:spPr>
          <a:xfrm>
            <a:off x="92520" y="2435400"/>
            <a:ext cx="340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b. 1.52 g ÷ 23.7 cm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Text Box 12"/>
          <p:cNvSpPr/>
          <p:nvPr/>
        </p:nvSpPr>
        <p:spPr>
          <a:xfrm>
            <a:off x="136800" y="3121200"/>
            <a:ext cx="350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. 0.02 cm x 2.37 c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Text Box 15"/>
          <p:cNvSpPr/>
          <p:nvPr/>
        </p:nvSpPr>
        <p:spPr>
          <a:xfrm>
            <a:off x="80280" y="3809880"/>
            <a:ext cx="27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d. 710 m ÷ 3.0 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Text Box 18"/>
          <p:cNvSpPr/>
          <p:nvPr/>
        </p:nvSpPr>
        <p:spPr>
          <a:xfrm>
            <a:off x="180360" y="4510080"/>
            <a:ext cx="349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e. 1818.2 lb x 3.23 f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Text Box 21"/>
          <p:cNvSpPr/>
          <p:nvPr/>
        </p:nvSpPr>
        <p:spPr>
          <a:xfrm>
            <a:off x="145440" y="5195880"/>
            <a:ext cx="339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f. 1.030 g x 2.87 m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Oval 11"/>
          <p:cNvSpPr/>
          <p:nvPr/>
        </p:nvSpPr>
        <p:spPr>
          <a:xfrm>
            <a:off x="8020080" y="404640"/>
            <a:ext cx="704880" cy="7048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119160"/>
            <a:ext cx="7772400" cy="21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The International System of Unit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OBJECTIVE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List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SI units of measurement and common SI prefixes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19160"/>
            <a:ext cx="7772400" cy="21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The International System of Unit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OBJECTIVE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Distinguish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between the </a:t>
            </a: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mass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weight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of an object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119160"/>
            <a:ext cx="7772400" cy="21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The International System of Unit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OBJECTIVE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Convert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between the Celsius and Kelvin temperature scales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62120" y="14436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International System of Units (SI)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01240" y="858960"/>
            <a:ext cx="8753400" cy="528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asurements depend upon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units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that serve as reference standar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standards of measurement used in science are those of the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Metric System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(SI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International System of Unit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80520" y="1455840"/>
            <a:ext cx="85345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etric system is now revised and named as the International System of Units (SI), as of 196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t has simplicity, and is based on 10 or multiples of 1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7 base units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ut only five commonly used in chemistry: meter, kilogram, kelvin, second, and mol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460320" y="890640"/>
            <a:ext cx="5683320" cy="230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Arial Black"/>
              </a:rPr>
              <a:t>Chapter 1</a:t>
            </a:r>
            <a:br>
              <a:rPr sz="4800"/>
            </a:br>
            <a:r>
              <a:rPr b="0" lang="en-US" sz="4800" spc="-1" strike="noStrike">
                <a:solidFill>
                  <a:srgbClr val="ffcc00"/>
                </a:solidFill>
                <a:latin typeface="Arial Black"/>
              </a:rPr>
              <a:t>“</a:t>
            </a:r>
            <a:r>
              <a:rPr b="0" i="1" lang="en-US" sz="4800" spc="-1" strike="noStrike">
                <a:solidFill>
                  <a:srgbClr val="ffcc00"/>
                </a:solidFill>
                <a:latin typeface="Arial Black"/>
              </a:rPr>
              <a:t>Scientific Measurement</a:t>
            </a:r>
            <a:r>
              <a:rPr b="0" lang="en-US" sz="4800" spc="-1" strike="noStrike">
                <a:solidFill>
                  <a:srgbClr val="ffcc00"/>
                </a:solidFill>
                <a:latin typeface="Arial Black"/>
              </a:rPr>
              <a:t>”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12920" y="3922560"/>
            <a:ext cx="8449920" cy="26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urtesy of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harles Page High Schoo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hemis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tephen L. Cott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www.cottonchemistry.bizland.com/.../Chapter%203%20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Scientific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%20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Measurement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.ppt 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Picture 1028" descr="scale2"/>
          <p:cNvPicPr/>
          <p:nvPr/>
        </p:nvPicPr>
        <p:blipFill>
          <a:blip r:embed="rId1"/>
          <a:stretch/>
        </p:blipFill>
        <p:spPr>
          <a:xfrm>
            <a:off x="920880" y="314280"/>
            <a:ext cx="2350800" cy="3427560"/>
          </a:xfrm>
          <a:prstGeom prst="rect">
            <a:avLst/>
          </a:prstGeom>
          <a:ln w="31680">
            <a:solidFill>
              <a:srgbClr val="ffff00"/>
            </a:solidFill>
            <a:miter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82760" y="-19080"/>
            <a:ext cx="8269200" cy="1307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The Fundamental SI Units</a:t>
            </a:r>
            <a:br>
              <a:rPr sz="4000"/>
            </a:b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(Le Système International, SI)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graphicFrame>
        <p:nvGraphicFramePr>
          <p:cNvPr id="219" name="Object 3"/>
          <p:cNvGraphicFramePr/>
          <p:nvPr/>
        </p:nvGraphicFramePr>
        <p:xfrm>
          <a:off x="690480" y="1460520"/>
          <a:ext cx="7774200" cy="5180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0480" y="1460520"/>
                    <a:ext cx="7774200" cy="5180040"/>
                  </a:xfrm>
                  <a:prstGeom prst="rect">
                    <a:avLst/>
                  </a:prstGeom>
                  <a:ln w="25560">
                    <a:solidFill>
                      <a:srgbClr val="ffff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21" name="Flowchart: Document 3"/>
          <p:cNvSpPr/>
          <p:nvPr/>
        </p:nvSpPr>
        <p:spPr>
          <a:xfrm>
            <a:off x="7824960" y="1963800"/>
            <a:ext cx="1319040" cy="658800"/>
          </a:xfrm>
          <a:prstGeom prst="flowChartDocument">
            <a:avLst/>
          </a:prstGeom>
          <a:solidFill>
            <a:srgbClr val="ff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3"/>
          <p:cNvSpPr/>
          <p:nvPr/>
        </p:nvSpPr>
        <p:spPr>
          <a:xfrm>
            <a:off x="1552680" y="1393920"/>
            <a:ext cx="5994360" cy="4948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37760" y="0"/>
            <a:ext cx="839628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 Black"/>
              </a:rPr>
              <a:t>SI Prefixes – Page 17</a:t>
            </a:r>
            <a:br>
              <a:rPr sz="4000"/>
            </a:br>
            <a:r>
              <a:rPr b="1" lang="en-US" sz="4000" spc="-1" strike="noStrike">
                <a:solidFill>
                  <a:srgbClr val="ffcc00"/>
                </a:solidFill>
                <a:latin typeface="Arial Black"/>
              </a:rPr>
              <a:t>Common to Chemistry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1676520" y="1498680"/>
          <a:ext cx="5740200" cy="4800600"/>
        </p:xfrm>
        <a:graphic>
          <a:graphicData uri="http://schemas.openxmlformats.org/drawingml/2006/table">
            <a:tbl>
              <a:tblPr/>
              <a:tblGrid>
                <a:gridCol w="1434960"/>
                <a:gridCol w="1434960"/>
                <a:gridCol w="1435320"/>
                <a:gridCol w="1434960"/>
              </a:tblGrid>
              <a:tr h="34272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Prefix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Abbrev.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Meaning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Expon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08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Meg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M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1,000,000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10</a:t>
                      </a:r>
                      <a:r>
                        <a:rPr b="1" lang="en-US" sz="1900" spc="-1" strike="noStrike" baseline="30000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6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72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10</a:t>
                      </a:r>
                      <a:r>
                        <a:rPr b="1" lang="en-US" sz="1900" spc="-1" strike="noStrike" baseline="30000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08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10</a:t>
                      </a:r>
                      <a:r>
                        <a:rPr b="1" lang="en-US" sz="1900" spc="-1" strike="noStrike" baseline="30000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72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Kil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K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1000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10</a:t>
                      </a:r>
                      <a:r>
                        <a:rPr b="1" lang="en-US" sz="1900" spc="-1" strike="noStrike" baseline="30000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08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Hect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H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100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10</a:t>
                      </a:r>
                      <a:r>
                        <a:rPr b="1" lang="en-US" sz="1900" spc="-1" strike="noStrike" baseline="30000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72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Dek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Dk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10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10</a:t>
                      </a:r>
                      <a:r>
                        <a:rPr b="1" lang="en-US" sz="1900" spc="-1" strike="noStrike" baseline="30000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08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Base Uni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10</a:t>
                      </a:r>
                      <a:r>
                        <a:rPr b="1" lang="en-US" sz="1900" spc="-1" strike="noStrike" baseline="30000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72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Deci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1/10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10</a:t>
                      </a:r>
                      <a:r>
                        <a:rPr b="1" lang="en-US" sz="1900" spc="-1" strike="noStrike" baseline="30000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-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08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Centi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c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1/100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10</a:t>
                      </a:r>
                      <a:r>
                        <a:rPr b="1" lang="en-US" sz="1900" spc="-1" strike="noStrike" baseline="30000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-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72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Milli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m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1/1000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10</a:t>
                      </a:r>
                      <a:r>
                        <a:rPr b="1" lang="en-US" sz="1900" spc="-1" strike="noStrike" baseline="30000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-3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08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10</a:t>
                      </a:r>
                      <a:r>
                        <a:rPr b="1" lang="en-US" sz="1900" spc="-1" strike="noStrike" baseline="30000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-4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72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10</a:t>
                      </a:r>
                      <a:r>
                        <a:rPr b="1" lang="en-US" sz="1900" spc="-1" strike="noStrike" baseline="30000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-5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08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Micr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Symbol"/>
                          <a:ea typeface="Symbol"/>
                        </a:rPr>
                        <a:t>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1/1,000,000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10</a:t>
                      </a:r>
                      <a:r>
                        <a:rPr b="1" lang="en-US" sz="1900" spc="-1" strike="noStrike" baseline="30000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-6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5" name="Flowchart: Document 3"/>
          <p:cNvSpPr/>
          <p:nvPr/>
        </p:nvSpPr>
        <p:spPr>
          <a:xfrm>
            <a:off x="7635960" y="1397160"/>
            <a:ext cx="1319040" cy="658800"/>
          </a:xfrm>
          <a:prstGeom prst="flowChartDocument">
            <a:avLst/>
          </a:prstGeom>
          <a:solidFill>
            <a:srgbClr val="ff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2"/>
          <p:cNvSpPr/>
          <p:nvPr/>
        </p:nvSpPr>
        <p:spPr>
          <a:xfrm>
            <a:off x="0" y="533520"/>
            <a:ext cx="91425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Rectangle 3"/>
          <p:cNvSpPr/>
          <p:nvPr/>
        </p:nvSpPr>
        <p:spPr>
          <a:xfrm>
            <a:off x="1600200" y="1614600"/>
            <a:ext cx="754236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Rectangle 4"/>
          <p:cNvSpPr/>
          <p:nvPr/>
        </p:nvSpPr>
        <p:spPr>
          <a:xfrm>
            <a:off x="3125880" y="2865600"/>
            <a:ext cx="2854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Rectangle 5"/>
          <p:cNvSpPr/>
          <p:nvPr/>
        </p:nvSpPr>
        <p:spPr>
          <a:xfrm>
            <a:off x="3124080" y="3505320"/>
            <a:ext cx="3468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Rectangle 6"/>
          <p:cNvSpPr/>
          <p:nvPr/>
        </p:nvSpPr>
        <p:spPr>
          <a:xfrm>
            <a:off x="1355760" y="4540320"/>
            <a:ext cx="1873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1204920" y="5183280"/>
            <a:ext cx="10461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Rectangle 8"/>
          <p:cNvSpPr/>
          <p:nvPr/>
        </p:nvSpPr>
        <p:spPr>
          <a:xfrm>
            <a:off x="2271600" y="5183280"/>
            <a:ext cx="594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Rectangle 9"/>
          <p:cNvSpPr/>
          <p:nvPr/>
        </p:nvSpPr>
        <p:spPr>
          <a:xfrm>
            <a:off x="3871800" y="4540320"/>
            <a:ext cx="50562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Rectangle 10"/>
          <p:cNvSpPr/>
          <p:nvPr/>
        </p:nvSpPr>
        <p:spPr>
          <a:xfrm>
            <a:off x="4014720" y="5183280"/>
            <a:ext cx="10461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Rectangle 11"/>
          <p:cNvSpPr/>
          <p:nvPr/>
        </p:nvSpPr>
        <p:spPr>
          <a:xfrm>
            <a:off x="7148520" y="5183280"/>
            <a:ext cx="5936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290520"/>
            <a:ext cx="7772400" cy="954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Nature of Measurement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332560" cy="4294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art 1 – </a:t>
            </a: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numb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art 2 – 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uni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ll measurements must have a unit! (no “naked” number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14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buClr>
                <a:srgbClr val="ffcc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20</a:t>
            </a: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gram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buClr>
                <a:srgbClr val="ffcc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6.63 x 10</a:t>
            </a:r>
            <a:r>
              <a:rPr b="1" lang="en-US" sz="3600" spc="-1" strike="noStrike" baseline="30000">
                <a:solidFill>
                  <a:srgbClr val="ffcc00"/>
                </a:solidFill>
                <a:latin typeface="Arial"/>
              </a:rPr>
              <a:t>-34</a:t>
            </a: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Joule second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 Box 14"/>
          <p:cNvSpPr/>
          <p:nvPr/>
        </p:nvSpPr>
        <p:spPr>
          <a:xfrm>
            <a:off x="184320" y="1295280"/>
            <a:ext cx="875160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Measurement - quantitative observation   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onsisting of </a:t>
            </a:r>
            <a:r>
              <a:rPr b="1" lang="en-US" sz="3400" spc="-1" strike="noStrike" u="sng">
                <a:solidFill>
                  <a:srgbClr val="ffffff"/>
                </a:solidFill>
                <a:uFillTx/>
                <a:latin typeface="Arial"/>
              </a:rPr>
              <a:t>2 parts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Flowchart: Document 14"/>
          <p:cNvSpPr/>
          <p:nvPr/>
        </p:nvSpPr>
        <p:spPr>
          <a:xfrm>
            <a:off x="7554960" y="1903320"/>
            <a:ext cx="1319040" cy="660600"/>
          </a:xfrm>
          <a:prstGeom prst="flowChartDocument">
            <a:avLst/>
          </a:prstGeom>
          <a:solidFill>
            <a:srgbClr val="ff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Length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 SI, the basic unit of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length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is the 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meter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(m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ength is the distance between two objects – measured with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rul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 make use of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prefixes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for units larger or small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Flowchart: Document 3"/>
          <p:cNvSpPr/>
          <p:nvPr/>
        </p:nvSpPr>
        <p:spPr>
          <a:xfrm>
            <a:off x="7464600" y="434880"/>
            <a:ext cx="1319040" cy="658800"/>
          </a:xfrm>
          <a:prstGeom prst="flowChartDocument">
            <a:avLst/>
          </a:prstGeom>
          <a:solidFill>
            <a:srgbClr val="ff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Volum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61640" y="739440"/>
            <a:ext cx="88074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space occupied by any sample of matter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alculated for a solid by multiplying the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length x width x heigh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; thus derived from units of length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I unit = </a:t>
            </a: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cubic meter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 (m</a:t>
            </a:r>
            <a:r>
              <a:rPr b="1" lang="en-US" sz="48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veryday unit = Liter (L),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Note: 1mL = 1cm</a:t>
            </a:r>
            <a:r>
              <a:rPr b="1" lang="en-US" sz="40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Flowchart: Document 3"/>
          <p:cNvSpPr/>
          <p:nvPr/>
        </p:nvSpPr>
        <p:spPr>
          <a:xfrm>
            <a:off x="7510320" y="1390680"/>
            <a:ext cx="1319400" cy="658800"/>
          </a:xfrm>
          <a:prstGeom prst="flowChartDocument">
            <a:avLst/>
          </a:prstGeom>
          <a:solidFill>
            <a:srgbClr val="ff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Devices for Measuring Liquid Volum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104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Graduated cylinder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Pipe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Bure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Erlenmeyer Flask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Syring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Units of Mas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cc00"/>
                </a:solidFill>
                <a:uFillTx/>
                <a:latin typeface="Arial"/>
              </a:rPr>
              <a:t>Mas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s a measure of the quantity of matter pres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Weight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is a force that measures the pull by gravity- it changes with loc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ss is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constant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, regardless of loc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Flowchart: Document 5"/>
          <p:cNvSpPr/>
          <p:nvPr/>
        </p:nvSpPr>
        <p:spPr>
          <a:xfrm>
            <a:off x="7585200" y="674640"/>
            <a:ext cx="1319040" cy="658800"/>
          </a:xfrm>
          <a:prstGeom prst="flowChartDocument">
            <a:avLst/>
          </a:prstGeom>
          <a:solidFill>
            <a:srgbClr val="ff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11280"/>
            <a:ext cx="77724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True or False?</a:t>
            </a:r>
            <a:br>
              <a:rPr sz="4400"/>
            </a:b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If false, re-write so it’s true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64760" y="1981080"/>
            <a:ext cx="7993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. The speed limit on Evergreen Rd. is 35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. A beaker measures ma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. 1 cm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s equal to 1 m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. The base unit for mass is the 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. Our mass changes when we go to the mo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. The metric system is based on 10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Oval 3"/>
          <p:cNvSpPr/>
          <p:nvPr/>
        </p:nvSpPr>
        <p:spPr>
          <a:xfrm>
            <a:off x="8020080" y="404640"/>
            <a:ext cx="704880" cy="7048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Working with Mas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80720" y="1209240"/>
            <a:ext cx="87534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he SI unit of mass is the </a:t>
            </a: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kilogram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 (kg),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even though a more convenient everyday unit is the gram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Gram is to small to expres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Measuring instrument is the </a:t>
            </a:r>
            <a:r>
              <a:rPr b="0" lang="en-US" sz="4800" spc="-1" strike="noStrike" u="sng">
                <a:solidFill>
                  <a:srgbClr val="ffffff"/>
                </a:solidFill>
                <a:uFillTx/>
                <a:latin typeface="Arial"/>
              </a:rPr>
              <a:t>balance scal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Flowchart: Document 4"/>
          <p:cNvSpPr/>
          <p:nvPr/>
        </p:nvSpPr>
        <p:spPr>
          <a:xfrm>
            <a:off x="7615080" y="509760"/>
            <a:ext cx="1319400" cy="660240"/>
          </a:xfrm>
          <a:prstGeom prst="flowChartDocument">
            <a:avLst/>
          </a:prstGeom>
          <a:solidFill>
            <a:srgbClr val="ff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0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797040"/>
            <a:ext cx="7772400" cy="76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Kg to g comparison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small paperclip has a mass of abou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 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6 week old puppy has a mass of about 1 kilo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9" name="Picture 5" descr="http://t2.gstatic.com/images?q=tbn:_mGSRRMnWmIkYM:http://barista.media2.org/wp-content/paper%2520clip%2520distortion.jpg"/>
          <p:cNvPicPr/>
          <p:nvPr/>
        </p:nvPicPr>
        <p:blipFill>
          <a:blip r:embed="rId3"/>
          <a:stretch/>
        </p:blipFill>
        <p:spPr>
          <a:xfrm>
            <a:off x="3421080" y="2662200"/>
            <a:ext cx="2274840" cy="151596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7" descr="http://t2.gstatic.com/images?q=tbn:_F-mI3RRqyCEDM:http://image-photo.weather.com/A5/77/full/A577B619-F815-4BEE-A2F3-BA82000CB9DF.jpg"/>
          <p:cNvPicPr/>
          <p:nvPr/>
        </p:nvPicPr>
        <p:blipFill>
          <a:blip r:embed="rId4"/>
          <a:stretch/>
        </p:blipFill>
        <p:spPr>
          <a:xfrm>
            <a:off x="5745240" y="4968720"/>
            <a:ext cx="2259000" cy="1690920"/>
          </a:xfrm>
          <a:prstGeom prst="rect">
            <a:avLst/>
          </a:prstGeom>
          <a:ln w="0">
            <a:noFill/>
          </a:ln>
        </p:spPr>
      </p:pic>
      <p:sp>
        <p:nvSpPr>
          <p:cNvPr id="261" name="Cloud Callout 5"/>
          <p:cNvSpPr/>
          <p:nvPr/>
        </p:nvSpPr>
        <p:spPr>
          <a:xfrm rot="19391400">
            <a:off x="4237200" y="5487480"/>
            <a:ext cx="2286000" cy="762120"/>
          </a:xfrm>
          <a:prstGeom prst="cloudCallout">
            <a:avLst>
              <a:gd name="adj1" fmla="val -17500"/>
              <a:gd name="adj2" fmla="val 36638"/>
            </a:avLst>
          </a:pr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222ff"/>
                </a:solidFill>
                <a:latin typeface="Bradley Hand ITC"/>
              </a:rPr>
              <a:t>AWWW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500"/>
                            </p:stCondLst>
                            <p:childTnLst>
                              <p:par>
                                <p:cTn id="3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119160"/>
            <a:ext cx="7772400" cy="21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Measurements and Their Uncertainty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OBJECTIVE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Convert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measurements to scientific notation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00200" y="2217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Units of Temperatur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213840" y="1012320"/>
            <a:ext cx="8767800" cy="538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emperature is a measure of how hot or cold an object i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eat moves from the object at the higher temperature to the object at the lower temperatur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e use two units of temperature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elsius – named after Anders Celsi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Kelvin – named after Lord Kelvi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Text Box 5"/>
          <p:cNvSpPr/>
          <p:nvPr/>
        </p:nvSpPr>
        <p:spPr>
          <a:xfrm>
            <a:off x="6039000" y="1568520"/>
            <a:ext cx="2582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Measured with a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hermometer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700200" y="2217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Units of Temperatur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213840" y="1012320"/>
            <a:ext cx="876780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97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 u="sng">
                <a:solidFill>
                  <a:srgbClr val="ffff00"/>
                </a:solidFill>
                <a:uFillTx/>
                <a:latin typeface="Arial"/>
              </a:rPr>
              <a:t>Celsius scale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 defined by two readily determined temperatures: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975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Freezing point of water = 0 </a:t>
            </a:r>
            <a:r>
              <a:rPr b="1" lang="en-US" sz="39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975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Boiling point of water = 100 </a:t>
            </a:r>
            <a:r>
              <a:rPr b="1" lang="en-US" sz="39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97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 u="sng">
                <a:solidFill>
                  <a:srgbClr val="ffff00"/>
                </a:solidFill>
                <a:uFillTx/>
                <a:latin typeface="Arial"/>
              </a:rPr>
              <a:t>Kelvin scale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 does not use the degree sign, but is just represented by K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absolute zero = 0 K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thus no negative valu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975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900" spc="-1" strike="noStrike" u="sng">
                <a:solidFill>
                  <a:srgbClr val="ffffff"/>
                </a:solidFill>
                <a:uFillTx/>
                <a:latin typeface="Arial"/>
              </a:rPr>
              <a:t>formula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 to convert:  K = </a:t>
            </a:r>
            <a:r>
              <a:rPr b="1" lang="en-US" sz="39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 + 273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Flowchart: Document 4"/>
          <p:cNvSpPr/>
          <p:nvPr/>
        </p:nvSpPr>
        <p:spPr>
          <a:xfrm>
            <a:off x="7615080" y="1679400"/>
            <a:ext cx="1319400" cy="659160"/>
          </a:xfrm>
          <a:prstGeom prst="flowChartDocument">
            <a:avLst/>
          </a:prstGeom>
          <a:solidFill>
            <a:srgbClr val="ff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8" name="Object 4"/>
          <p:cNvGraphicFramePr/>
          <p:nvPr/>
        </p:nvGraphicFramePr>
        <p:xfrm>
          <a:off x="0" y="0"/>
          <a:ext cx="9318600" cy="704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318600" cy="704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0" name="Text Box 5"/>
          <p:cNvSpPr/>
          <p:nvPr/>
        </p:nvSpPr>
        <p:spPr>
          <a:xfrm>
            <a:off x="3990960" y="479520"/>
            <a:ext cx="197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 Page 7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Oval 3"/>
          <p:cNvSpPr/>
          <p:nvPr/>
        </p:nvSpPr>
        <p:spPr>
          <a:xfrm>
            <a:off x="8080200" y="600120"/>
            <a:ext cx="703440" cy="7048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00200" y="2217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Units of Energy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213840" y="1012680"/>
            <a:ext cx="8767800" cy="50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nergy is the capacity to do work, or to produce heat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nergy can also be measured, and two common units are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901"/>
              </a:spcBef>
              <a:buClr>
                <a:srgbClr val="ffffff"/>
              </a:buClr>
              <a:buSzPct val="90000"/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Joul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(J) = the SI unit of energy, named after James Prescott Jou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901"/>
              </a:spcBef>
              <a:buClr>
                <a:srgbClr val="ffffff"/>
              </a:buClr>
              <a:buSzPct val="90000"/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alori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(cal) = the heat needed to raise 1 gram of water by 1 </a:t>
            </a:r>
            <a:r>
              <a:rPr b="1" lang="en-US" sz="36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9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0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700200" y="174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onversion Problem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13840" y="1809720"/>
            <a:ext cx="8767800" cy="443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BJECTIVE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Construct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conversion factors from equivalent measurements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00200" y="174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onversion Problem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213840" y="1809720"/>
            <a:ext cx="8767800" cy="443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BJECTIVE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Apply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the techniques of dimensional analysis to a variety of conversion problems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00200" y="174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onversion Problem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13840" y="1809720"/>
            <a:ext cx="8767800" cy="443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BJECTIVE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Solve problems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by breaking the solution into steps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00200" y="174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onversion Problem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13840" y="1809720"/>
            <a:ext cx="8767800" cy="443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BJECTIVE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Convert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complex units, using dimensional analysis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71400" y="19476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onversion factor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228240" y="945720"/>
            <a:ext cx="8915400" cy="528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95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A “ratio” of equivalent measurement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95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Start with two things that are the same: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one meter is one hundred centimeter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95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write it as an equation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1 m = 100 cm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95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We can divide on each side of the equation to come up with two ways of writing the number “1”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Flowchart: Document 4"/>
          <p:cNvSpPr/>
          <p:nvPr/>
        </p:nvSpPr>
        <p:spPr>
          <a:xfrm>
            <a:off x="7585200" y="344520"/>
            <a:ext cx="1319040" cy="660240"/>
          </a:xfrm>
          <a:prstGeom prst="flowChartDocument">
            <a:avLst/>
          </a:prstGeom>
          <a:solidFill>
            <a:srgbClr val="ff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0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2"/>
          <p:cNvSpPr/>
          <p:nvPr/>
        </p:nvSpPr>
        <p:spPr>
          <a:xfrm>
            <a:off x="685800" y="457200"/>
            <a:ext cx="77724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onversion facto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6" name="Group 3"/>
          <p:cNvGrpSpPr/>
          <p:nvPr/>
        </p:nvGrpSpPr>
        <p:grpSpPr>
          <a:xfrm>
            <a:off x="2574720" y="1859040"/>
            <a:ext cx="4361760" cy="702000"/>
            <a:chOff x="2574720" y="1859040"/>
            <a:chExt cx="4361760" cy="702000"/>
          </a:xfrm>
        </p:grpSpPr>
        <p:sp>
          <p:nvSpPr>
            <p:cNvPr id="287" name="Rectangle 4"/>
            <p:cNvSpPr/>
            <p:nvPr/>
          </p:nvSpPr>
          <p:spPr>
            <a:xfrm>
              <a:off x="5241240" y="1859040"/>
              <a:ext cx="169524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100 cm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Rectangle 5"/>
            <p:cNvSpPr/>
            <p:nvPr/>
          </p:nvSpPr>
          <p:spPr>
            <a:xfrm>
              <a:off x="2574720" y="1859040"/>
              <a:ext cx="96084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1 m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9" name="Rectangle 6"/>
          <p:cNvSpPr/>
          <p:nvPr/>
        </p:nvSpPr>
        <p:spPr>
          <a:xfrm>
            <a:off x="4326840" y="1859040"/>
            <a:ext cx="4716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0" name="Group 7"/>
          <p:cNvGrpSpPr/>
          <p:nvPr/>
        </p:nvGrpSpPr>
        <p:grpSpPr>
          <a:xfrm>
            <a:off x="1905120" y="2438280"/>
            <a:ext cx="5486400" cy="0"/>
            <a:chOff x="1905120" y="2438280"/>
            <a:chExt cx="5486400" cy="0"/>
          </a:xfrm>
        </p:grpSpPr>
        <p:sp>
          <p:nvSpPr>
            <p:cNvPr id="291" name="Line 8"/>
            <p:cNvSpPr/>
            <p:nvPr/>
          </p:nvSpPr>
          <p:spPr>
            <a:xfrm>
              <a:off x="1905120" y="2438280"/>
              <a:ext cx="243828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Line 9"/>
            <p:cNvSpPr/>
            <p:nvPr/>
          </p:nvSpPr>
          <p:spPr>
            <a:xfrm>
              <a:off x="4952880" y="2438280"/>
              <a:ext cx="243864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93" name="Group 10"/>
          <p:cNvGrpSpPr/>
          <p:nvPr/>
        </p:nvGrpSpPr>
        <p:grpSpPr>
          <a:xfrm>
            <a:off x="2193120" y="2392200"/>
            <a:ext cx="4743360" cy="702000"/>
            <a:chOff x="2193120" y="2392200"/>
            <a:chExt cx="4743360" cy="702000"/>
          </a:xfrm>
        </p:grpSpPr>
        <p:sp>
          <p:nvSpPr>
            <p:cNvPr id="294" name="Rectangle 11"/>
            <p:cNvSpPr/>
            <p:nvPr/>
          </p:nvSpPr>
          <p:spPr>
            <a:xfrm>
              <a:off x="2193120" y="2392200"/>
              <a:ext cx="169524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100 cm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Rectangle 12"/>
            <p:cNvSpPr/>
            <p:nvPr/>
          </p:nvSpPr>
          <p:spPr>
            <a:xfrm>
              <a:off x="5241240" y="2392200"/>
              <a:ext cx="169524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100 cm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6" name="Line 13"/>
          <p:cNvSpPr/>
          <p:nvPr/>
        </p:nvSpPr>
        <p:spPr>
          <a:xfrm>
            <a:off x="5029200" y="1905120"/>
            <a:ext cx="2133720" cy="533160"/>
          </a:xfrm>
          <a:prstGeom prst="line">
            <a:avLst/>
          </a:prstGeom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Line 14"/>
          <p:cNvSpPr/>
          <p:nvPr/>
        </p:nvSpPr>
        <p:spPr>
          <a:xfrm>
            <a:off x="5029200" y="2438280"/>
            <a:ext cx="2133720" cy="533520"/>
          </a:xfrm>
          <a:prstGeom prst="line">
            <a:avLst/>
          </a:prstGeom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6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6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119160"/>
            <a:ext cx="7772400" cy="21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Measurements and Their Uncertainty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OBJECTIVE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Distinguish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among accuracy, precision, and error of a measurement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2"/>
          <p:cNvSpPr/>
          <p:nvPr/>
        </p:nvSpPr>
        <p:spPr>
          <a:xfrm>
            <a:off x="685800" y="457200"/>
            <a:ext cx="77724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onversion facto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Rectangle 3"/>
          <p:cNvSpPr/>
          <p:nvPr/>
        </p:nvSpPr>
        <p:spPr>
          <a:xfrm>
            <a:off x="5317920" y="1865160"/>
            <a:ext cx="604080" cy="10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Rectangle 4"/>
          <p:cNvSpPr/>
          <p:nvPr/>
        </p:nvSpPr>
        <p:spPr>
          <a:xfrm>
            <a:off x="2574720" y="1859040"/>
            <a:ext cx="9608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1 m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Rectangle 5"/>
          <p:cNvSpPr/>
          <p:nvPr/>
        </p:nvSpPr>
        <p:spPr>
          <a:xfrm>
            <a:off x="4326840" y="1859040"/>
            <a:ext cx="4716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Line 6"/>
          <p:cNvSpPr/>
          <p:nvPr/>
        </p:nvSpPr>
        <p:spPr>
          <a:xfrm>
            <a:off x="1905120" y="2438280"/>
            <a:ext cx="243828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Rectangle 7"/>
          <p:cNvSpPr/>
          <p:nvPr/>
        </p:nvSpPr>
        <p:spPr>
          <a:xfrm>
            <a:off x="2193120" y="2392200"/>
            <a:ext cx="16952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100 cm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2"/>
          <p:cNvSpPr/>
          <p:nvPr/>
        </p:nvSpPr>
        <p:spPr>
          <a:xfrm>
            <a:off x="685800" y="457200"/>
            <a:ext cx="77724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onversion facto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Rectangle 3"/>
          <p:cNvSpPr/>
          <p:nvPr/>
        </p:nvSpPr>
        <p:spPr>
          <a:xfrm>
            <a:off x="5317920" y="1865160"/>
            <a:ext cx="604080" cy="10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Rectangle 4"/>
          <p:cNvSpPr/>
          <p:nvPr/>
        </p:nvSpPr>
        <p:spPr>
          <a:xfrm>
            <a:off x="2574720" y="1859040"/>
            <a:ext cx="9608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1 m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Rectangle 5"/>
          <p:cNvSpPr/>
          <p:nvPr/>
        </p:nvSpPr>
        <p:spPr>
          <a:xfrm>
            <a:off x="4326840" y="1859040"/>
            <a:ext cx="4716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Rectangle 6"/>
          <p:cNvSpPr/>
          <p:nvPr/>
        </p:nvSpPr>
        <p:spPr>
          <a:xfrm>
            <a:off x="2193120" y="2392200"/>
            <a:ext cx="16952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100 cm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9" name="Group 7"/>
          <p:cNvGrpSpPr/>
          <p:nvPr/>
        </p:nvGrpSpPr>
        <p:grpSpPr>
          <a:xfrm>
            <a:off x="2422440" y="3611520"/>
            <a:ext cx="4361760" cy="702000"/>
            <a:chOff x="2422440" y="3611520"/>
            <a:chExt cx="4361760" cy="702000"/>
          </a:xfrm>
        </p:grpSpPr>
        <p:sp>
          <p:nvSpPr>
            <p:cNvPr id="310" name="Rectangle 8"/>
            <p:cNvSpPr/>
            <p:nvPr/>
          </p:nvSpPr>
          <p:spPr>
            <a:xfrm>
              <a:off x="5088960" y="3611520"/>
              <a:ext cx="169524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100 cm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Rectangle 9"/>
            <p:cNvSpPr/>
            <p:nvPr/>
          </p:nvSpPr>
          <p:spPr>
            <a:xfrm>
              <a:off x="4174560" y="3611520"/>
              <a:ext cx="47160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Rectangle 10"/>
            <p:cNvSpPr/>
            <p:nvPr/>
          </p:nvSpPr>
          <p:spPr>
            <a:xfrm>
              <a:off x="2422440" y="3611520"/>
              <a:ext cx="96084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1 m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3" name="Line 11"/>
          <p:cNvSpPr/>
          <p:nvPr/>
        </p:nvSpPr>
        <p:spPr>
          <a:xfrm>
            <a:off x="1905120" y="2438280"/>
            <a:ext cx="243828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4" name="Group 12"/>
          <p:cNvGrpSpPr/>
          <p:nvPr/>
        </p:nvGrpSpPr>
        <p:grpSpPr>
          <a:xfrm>
            <a:off x="1828800" y="4267080"/>
            <a:ext cx="5257800" cy="0"/>
            <a:chOff x="1828800" y="4267080"/>
            <a:chExt cx="5257800" cy="0"/>
          </a:xfrm>
        </p:grpSpPr>
        <p:sp>
          <p:nvSpPr>
            <p:cNvPr id="315" name="Line 13"/>
            <p:cNvSpPr/>
            <p:nvPr/>
          </p:nvSpPr>
          <p:spPr>
            <a:xfrm>
              <a:off x="1828800" y="4267080"/>
              <a:ext cx="243828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Line 14"/>
            <p:cNvSpPr/>
            <p:nvPr/>
          </p:nvSpPr>
          <p:spPr>
            <a:xfrm>
              <a:off x="4648320" y="4267080"/>
              <a:ext cx="243828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7" name="Group 15"/>
          <p:cNvGrpSpPr/>
          <p:nvPr/>
        </p:nvGrpSpPr>
        <p:grpSpPr>
          <a:xfrm>
            <a:off x="2422440" y="4297320"/>
            <a:ext cx="3780360" cy="702000"/>
            <a:chOff x="2422440" y="4297320"/>
            <a:chExt cx="3780360" cy="702000"/>
          </a:xfrm>
        </p:grpSpPr>
        <p:sp>
          <p:nvSpPr>
            <p:cNvPr id="318" name="Rectangle 16"/>
            <p:cNvSpPr/>
            <p:nvPr/>
          </p:nvSpPr>
          <p:spPr>
            <a:xfrm>
              <a:off x="2422440" y="4297320"/>
              <a:ext cx="96084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1 m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Rectangle 17"/>
            <p:cNvSpPr/>
            <p:nvPr/>
          </p:nvSpPr>
          <p:spPr>
            <a:xfrm>
              <a:off x="5241960" y="4297320"/>
              <a:ext cx="96084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1 m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0" name="Line 18"/>
          <p:cNvSpPr/>
          <p:nvPr/>
        </p:nvSpPr>
        <p:spPr>
          <a:xfrm>
            <a:off x="2286000" y="3733920"/>
            <a:ext cx="1219320" cy="380880"/>
          </a:xfrm>
          <a:prstGeom prst="line">
            <a:avLst/>
          </a:prstGeom>
          <a:ln w="507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Line 19"/>
          <p:cNvSpPr/>
          <p:nvPr/>
        </p:nvSpPr>
        <p:spPr>
          <a:xfrm>
            <a:off x="2362320" y="4495680"/>
            <a:ext cx="1218960" cy="381240"/>
          </a:xfrm>
          <a:prstGeom prst="line">
            <a:avLst/>
          </a:prstGeom>
          <a:ln w="507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500"/>
                            </p:stCondLst>
                            <p:childTnLst>
                              <p:par>
                                <p:cTn id="4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0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0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2"/>
          <p:cNvSpPr/>
          <p:nvPr/>
        </p:nvSpPr>
        <p:spPr>
          <a:xfrm>
            <a:off x="685800" y="457200"/>
            <a:ext cx="77724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onversion facto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Rectangle 3"/>
          <p:cNvSpPr/>
          <p:nvPr/>
        </p:nvSpPr>
        <p:spPr>
          <a:xfrm>
            <a:off x="5317920" y="1865160"/>
            <a:ext cx="604080" cy="10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Rectangle 4"/>
          <p:cNvSpPr/>
          <p:nvPr/>
        </p:nvSpPr>
        <p:spPr>
          <a:xfrm>
            <a:off x="2574720" y="1859040"/>
            <a:ext cx="9608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1 m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Rectangle 5"/>
          <p:cNvSpPr/>
          <p:nvPr/>
        </p:nvSpPr>
        <p:spPr>
          <a:xfrm>
            <a:off x="4326840" y="1859040"/>
            <a:ext cx="4716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Rectangle 6"/>
          <p:cNvSpPr/>
          <p:nvPr/>
        </p:nvSpPr>
        <p:spPr>
          <a:xfrm>
            <a:off x="2193120" y="2392200"/>
            <a:ext cx="16952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100 cm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Rectangle 7"/>
          <p:cNvSpPr/>
          <p:nvPr/>
        </p:nvSpPr>
        <p:spPr>
          <a:xfrm>
            <a:off x="5088960" y="3611520"/>
            <a:ext cx="16952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100 cm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Rectangle 8"/>
          <p:cNvSpPr/>
          <p:nvPr/>
        </p:nvSpPr>
        <p:spPr>
          <a:xfrm>
            <a:off x="4174560" y="3611520"/>
            <a:ext cx="4716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Line 9"/>
          <p:cNvSpPr/>
          <p:nvPr/>
        </p:nvSpPr>
        <p:spPr>
          <a:xfrm>
            <a:off x="1905120" y="2438280"/>
            <a:ext cx="243828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Line 10"/>
          <p:cNvSpPr/>
          <p:nvPr/>
        </p:nvSpPr>
        <p:spPr>
          <a:xfrm>
            <a:off x="4648320" y="4267080"/>
            <a:ext cx="243828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Rectangle 11"/>
          <p:cNvSpPr/>
          <p:nvPr/>
        </p:nvSpPr>
        <p:spPr>
          <a:xfrm>
            <a:off x="5241960" y="4297320"/>
            <a:ext cx="9608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1 m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Rectangle 12"/>
          <p:cNvSpPr/>
          <p:nvPr/>
        </p:nvSpPr>
        <p:spPr>
          <a:xfrm>
            <a:off x="3260520" y="3618000"/>
            <a:ext cx="604080" cy="10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16776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onversion factor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213840" y="958320"/>
            <a:ext cx="8759880" cy="529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5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A unique way of writing the number 1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5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Equivalence statements always have this relationship: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cc00"/>
                </a:solidFill>
                <a:latin typeface="Arial"/>
              </a:rPr>
              <a:t>  </a:t>
            </a:r>
            <a:r>
              <a:rPr b="0" lang="en-US" sz="3800" spc="-1" strike="noStrike">
                <a:solidFill>
                  <a:srgbClr val="b3e692"/>
                </a:solidFill>
                <a:latin typeface="Arial"/>
              </a:rPr>
              <a:t>big #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small unit = </a:t>
            </a:r>
            <a:r>
              <a:rPr b="0" lang="en-US" sz="3800" spc="-1" strike="noStrike">
                <a:solidFill>
                  <a:srgbClr val="ff0000"/>
                </a:solidFill>
                <a:latin typeface="Arial"/>
              </a:rPr>
              <a:t>small #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big unit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cc00"/>
                </a:solidFill>
                <a:latin typeface="Arial"/>
              </a:rPr>
              <a:t>           </a:t>
            </a:r>
            <a:r>
              <a:rPr b="0" lang="en-US" sz="3800" spc="-1" strike="noStrike">
                <a:solidFill>
                  <a:srgbClr val="b3e692"/>
                </a:solidFill>
                <a:latin typeface="Arial"/>
              </a:rPr>
              <a:t>1000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mm = </a:t>
            </a:r>
            <a:r>
              <a:rPr b="0" lang="en-US" sz="3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Which below are good conversion factors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.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1 inch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Complete the conver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54 cm                                  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fac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.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1 kilometer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e.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100 c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 m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.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1000 ml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 lit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.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1 class peri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.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30 days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 mon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Oval 5"/>
          <p:cNvSpPr/>
          <p:nvPr/>
        </p:nvSpPr>
        <p:spPr>
          <a:xfrm>
            <a:off x="7974000" y="1347840"/>
            <a:ext cx="704880" cy="7030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Rectangle 9"/>
          <p:cNvSpPr/>
          <p:nvPr/>
        </p:nvSpPr>
        <p:spPr>
          <a:xfrm>
            <a:off x="5108400" y="3497400"/>
            <a:ext cx="1640160" cy="465120"/>
          </a:xfrm>
          <a:prstGeom prst="rect">
            <a:avLst/>
          </a:pr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Rectangle 10"/>
          <p:cNvSpPr/>
          <p:nvPr/>
        </p:nvSpPr>
        <p:spPr>
          <a:xfrm>
            <a:off x="4811760" y="5173560"/>
            <a:ext cx="2373120" cy="487440"/>
          </a:xfrm>
          <a:prstGeom prst="rect">
            <a:avLst/>
          </a:pr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61800" y="174600"/>
            <a:ext cx="8445600" cy="212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Practice by writing the </a:t>
            </a:r>
            <a:r>
              <a:rPr b="0" lang="en-US" sz="4400" spc="-1" strike="noStrike" u="sng">
                <a:solidFill>
                  <a:srgbClr val="ffcc00"/>
                </a:solidFill>
                <a:uFillTx/>
                <a:latin typeface="Arial"/>
              </a:rPr>
              <a:t>two 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possible conversion factors for the following: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. Between kilograms and gra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. between feet and inch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. using 1.0 gal. = 3.8 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Oval 5"/>
          <p:cNvSpPr/>
          <p:nvPr/>
        </p:nvSpPr>
        <p:spPr>
          <a:xfrm>
            <a:off x="7989840" y="1825560"/>
            <a:ext cx="704880" cy="7034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0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32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Conversion factors; what are they good for?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440" y="1671480"/>
            <a:ext cx="7932600" cy="449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can multiply by the number “one” creatively to change the uni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: 13 inches is how many yard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know that 36 inches = 1 yar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 yard     = 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36 inch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10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 yard      x     13 inches      =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6 inch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Line 4"/>
          <p:cNvSpPr/>
          <p:nvPr/>
        </p:nvSpPr>
        <p:spPr>
          <a:xfrm>
            <a:off x="1147680" y="4475160"/>
            <a:ext cx="17528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Line 5"/>
          <p:cNvSpPr/>
          <p:nvPr/>
        </p:nvSpPr>
        <p:spPr>
          <a:xfrm>
            <a:off x="1117440" y="5716440"/>
            <a:ext cx="17528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Flowchart: Document 4"/>
          <p:cNvSpPr/>
          <p:nvPr/>
        </p:nvSpPr>
        <p:spPr>
          <a:xfrm>
            <a:off x="7542360" y="1114560"/>
            <a:ext cx="1319040" cy="660240"/>
          </a:xfrm>
          <a:prstGeom prst="flowChartDocument">
            <a:avLst/>
          </a:prstGeom>
          <a:solidFill>
            <a:srgbClr val="ff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0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2"/>
          <p:cNvSpPr/>
          <p:nvPr/>
        </p:nvSpPr>
        <p:spPr>
          <a:xfrm>
            <a:off x="685800" y="0"/>
            <a:ext cx="77724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Here’s how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Rectangle 3"/>
          <p:cNvSpPr/>
          <p:nvPr/>
        </p:nvSpPr>
        <p:spPr>
          <a:xfrm>
            <a:off x="304920" y="1143000"/>
            <a:ext cx="88390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850"/>
              </a:spcBef>
              <a:buClr>
                <a:srgbClr val="ffcc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Q: 13 inches equals how many </a:t>
            </a:r>
            <a:r>
              <a:rPr b="0" lang="en-US" sz="3400" spc="-1" strike="noStrike" u="sng">
                <a:solidFill>
                  <a:srgbClr val="ffffff"/>
                </a:solidFill>
                <a:uFillTx/>
                <a:latin typeface="Times New Roman"/>
              </a:rPr>
              <a:t>yards</a:t>
            </a: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850"/>
              </a:spcBef>
              <a:buClr>
                <a:srgbClr val="ffcc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We know that 1 yard = 36 inches.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850"/>
              </a:spcBef>
              <a:buClr>
                <a:srgbClr val="ffcc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Since we need an answer in yards, that goes on the top.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850"/>
              </a:spcBef>
              <a:buClr>
                <a:srgbClr val="ffcc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Now multiply by 13 inches.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Line 6"/>
          <p:cNvSpPr/>
          <p:nvPr/>
        </p:nvSpPr>
        <p:spPr>
          <a:xfrm>
            <a:off x="3849840" y="4699080"/>
            <a:ext cx="1218960" cy="457200"/>
          </a:xfrm>
          <a:prstGeom prst="line">
            <a:avLst/>
          </a:prstGeom>
          <a:ln w="507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Line 7"/>
          <p:cNvSpPr/>
          <p:nvPr/>
        </p:nvSpPr>
        <p:spPr>
          <a:xfrm>
            <a:off x="1270080" y="5259240"/>
            <a:ext cx="1218960" cy="457200"/>
          </a:xfrm>
          <a:prstGeom prst="line">
            <a:avLst/>
          </a:prstGeom>
          <a:ln w="507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Oval Callout 7"/>
          <p:cNvSpPr/>
          <p:nvPr/>
        </p:nvSpPr>
        <p:spPr>
          <a:xfrm>
            <a:off x="5889600" y="2919240"/>
            <a:ext cx="2424240" cy="1322640"/>
          </a:xfrm>
          <a:prstGeom prst="wedgeEllipseCallout">
            <a:avLst>
              <a:gd name="adj1" fmla="val -92574"/>
              <a:gd name="adj2" fmla="val 108949"/>
            </a:avLst>
          </a:prstGeom>
          <a:solidFill>
            <a:srgbClr val="fabe00">
              <a:alpha val="7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Units cancel out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just lik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numbers do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3" name="Group 9"/>
          <p:cNvGrpSpPr/>
          <p:nvPr/>
        </p:nvGrpSpPr>
        <p:grpSpPr>
          <a:xfrm>
            <a:off x="644400" y="4541760"/>
            <a:ext cx="2248200" cy="1191240"/>
            <a:chOff x="644400" y="4541760"/>
            <a:chExt cx="2248200" cy="1191240"/>
          </a:xfrm>
        </p:grpSpPr>
        <p:sp>
          <p:nvSpPr>
            <p:cNvPr id="354" name="Line 5"/>
            <p:cNvSpPr/>
            <p:nvPr/>
          </p:nvSpPr>
          <p:spPr>
            <a:xfrm>
              <a:off x="655560" y="5121000"/>
              <a:ext cx="1752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TextBox 8"/>
            <p:cNvSpPr/>
            <p:nvPr/>
          </p:nvSpPr>
          <p:spPr>
            <a:xfrm>
              <a:off x="644400" y="4541760"/>
              <a:ext cx="2248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 yard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36 inches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6" name="TextBox 11"/>
          <p:cNvSpPr/>
          <p:nvPr/>
        </p:nvSpPr>
        <p:spPr>
          <a:xfrm>
            <a:off x="2622600" y="4557600"/>
            <a:ext cx="379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x   13 inches  =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TextBox 12"/>
          <p:cNvSpPr/>
          <p:nvPr/>
        </p:nvSpPr>
        <p:spPr>
          <a:xfrm>
            <a:off x="5921280" y="4557600"/>
            <a:ext cx="218772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0.36 yard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Flowchart: Document 4"/>
          <p:cNvSpPr/>
          <p:nvPr/>
        </p:nvSpPr>
        <p:spPr>
          <a:xfrm>
            <a:off x="7585200" y="344520"/>
            <a:ext cx="1319040" cy="660240"/>
          </a:xfrm>
          <a:prstGeom prst="flowChartDocument">
            <a:avLst/>
          </a:prstGeom>
          <a:solidFill>
            <a:srgbClr val="ff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Curved Up Arrow 14"/>
          <p:cNvSpPr/>
          <p:nvPr/>
        </p:nvSpPr>
        <p:spPr>
          <a:xfrm>
            <a:off x="1843200" y="5181480"/>
            <a:ext cx="5718240" cy="1044720"/>
          </a:xfrm>
          <a:custGeom>
            <a:avLst/>
            <a:gdLst>
              <a:gd name="textAreaLeft" fmla="*/ 1331640 w 5718240"/>
              <a:gd name="textAreaRight" fmla="*/ 4255920 w 5718240"/>
              <a:gd name="textAreaTop" fmla="*/ 139680 h 1044720"/>
              <a:gd name="textAreaBottom" fmla="*/ 905040 h 10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10060" hR="21600" stAng="10800000" swAng="-5400000"/>
                <a:lnTo>
                  <a:pt x="11046" y="21600"/>
                </a:lnTo>
                <a:arcTo wR="10060" hR="21600" stAng="5400000" swAng="-3659805"/>
                <a:lnTo>
                  <a:pt x="21281" y="5400"/>
                </a:lnTo>
                <a:lnTo>
                  <a:pt x="20613" y="0"/>
                </a:lnTo>
                <a:lnTo>
                  <a:pt x="19307" y="5400"/>
                </a:lnTo>
                <a:lnTo>
                  <a:pt x="19801" y="5400"/>
                </a:lnTo>
                <a:arcTo wR="10060" hR="21600" stAng="1740195" swAng="3581261"/>
                <a:lnTo>
                  <a:pt x="10553" y="21574"/>
                </a:lnTo>
                <a:arcTo wR="10060" hR="21600" stAng="5478544" swAng="5321456"/>
                <a:close/>
              </a:path>
              <a:path fill="darkenLess" w="21600" h="21600">
                <a:moveTo>
                  <a:pt x="0" y="0"/>
                </a:moveTo>
                <a:arcTo wR="10060" hR="21600" stAng="10800000" swAng="-5400000"/>
                <a:lnTo>
                  <a:pt x="11046" y="21600"/>
                </a:lnTo>
                <a:arcTo wR="10060" hR="21600" stAng="5400000" swAng="78544"/>
                <a:lnTo>
                  <a:pt x="10553" y="21574"/>
                </a:lnTo>
                <a:arcTo wR="10060" hR="21600" stAng="5478544" swAng="5321456"/>
                <a:close/>
              </a:path>
            </a:pathLst>
          </a:custGeom>
          <a:solidFill>
            <a:srgbClr val="9ce157">
              <a:alpha val="5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Oval 15"/>
          <p:cNvSpPr/>
          <p:nvPr/>
        </p:nvSpPr>
        <p:spPr>
          <a:xfrm>
            <a:off x="3948120" y="5529240"/>
            <a:ext cx="1843200" cy="1133640"/>
          </a:xfrm>
          <a:prstGeom prst="ellipse">
            <a:avLst/>
          </a:pr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Remaining uni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goes with th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9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500"/>
                            </p:stCondLst>
                            <p:childTnLst>
                              <p:par>
                                <p:cTn id="5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3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1000"/>
                            </p:stCondLst>
                            <p:childTnLst>
                              <p:par>
                                <p:cTn id="5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0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0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2000"/>
                            </p:stCondLst>
                            <p:childTnLst>
                              <p:par>
                                <p:cTn id="5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364680"/>
            <a:ext cx="7772400" cy="16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Let’s practice!</a:t>
            </a:r>
            <a:br>
              <a:rPr sz="4400"/>
            </a:b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You must show all work like shown below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09040" indent="-509040"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many meters are in 100 yard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09040" indent="-50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ers x         cm  x                inches   x          yard  =              cm               inches               y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09040" indent="-50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. How many centimeters are in a foo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09040" indent="-50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. How many minutes are in a da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09040" indent="-50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. One lap around the track is 400 meters.  How many miles is this equal to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not ¼ of a mile…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09040" indent="-50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Oval 5"/>
          <p:cNvSpPr/>
          <p:nvPr/>
        </p:nvSpPr>
        <p:spPr>
          <a:xfrm>
            <a:off x="8005680" y="403200"/>
            <a:ext cx="704880" cy="7034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Rectangle 4"/>
          <p:cNvSpPr/>
          <p:nvPr/>
        </p:nvSpPr>
        <p:spPr>
          <a:xfrm>
            <a:off x="289080" y="2606760"/>
            <a:ext cx="641160" cy="334800"/>
          </a:xfrm>
          <a:prstGeom prst="rect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Rectangle 5"/>
          <p:cNvSpPr/>
          <p:nvPr/>
        </p:nvSpPr>
        <p:spPr>
          <a:xfrm>
            <a:off x="304920" y="3002040"/>
            <a:ext cx="639720" cy="334800"/>
          </a:xfrm>
          <a:prstGeom prst="rect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Rectangle 6"/>
          <p:cNvSpPr/>
          <p:nvPr/>
        </p:nvSpPr>
        <p:spPr>
          <a:xfrm>
            <a:off x="2239920" y="2606760"/>
            <a:ext cx="639720" cy="334800"/>
          </a:xfrm>
          <a:prstGeom prst="rect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Rectangle 7"/>
          <p:cNvSpPr/>
          <p:nvPr/>
        </p:nvSpPr>
        <p:spPr>
          <a:xfrm>
            <a:off x="2255760" y="3002040"/>
            <a:ext cx="639720" cy="334800"/>
          </a:xfrm>
          <a:prstGeom prst="rect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Rectangle 8"/>
          <p:cNvSpPr/>
          <p:nvPr/>
        </p:nvSpPr>
        <p:spPr>
          <a:xfrm>
            <a:off x="4359240" y="2590920"/>
            <a:ext cx="639720" cy="334800"/>
          </a:xfrm>
          <a:prstGeom prst="rect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Rectangle 9"/>
          <p:cNvSpPr/>
          <p:nvPr/>
        </p:nvSpPr>
        <p:spPr>
          <a:xfrm>
            <a:off x="4359240" y="2987640"/>
            <a:ext cx="639720" cy="335160"/>
          </a:xfrm>
          <a:prstGeom prst="rect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Rectangle 10"/>
          <p:cNvSpPr/>
          <p:nvPr/>
        </p:nvSpPr>
        <p:spPr>
          <a:xfrm>
            <a:off x="6384960" y="2606760"/>
            <a:ext cx="641160" cy="334800"/>
          </a:xfrm>
          <a:prstGeom prst="rect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Straight Connector 15"/>
          <p:cNvSpPr/>
          <p:nvPr/>
        </p:nvSpPr>
        <p:spPr>
          <a:xfrm flipH="1">
            <a:off x="198000" y="2971800"/>
            <a:ext cx="1630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Straight Connector 16"/>
          <p:cNvSpPr/>
          <p:nvPr/>
        </p:nvSpPr>
        <p:spPr>
          <a:xfrm flipH="1">
            <a:off x="2163240" y="2971800"/>
            <a:ext cx="1630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Straight Connector 17"/>
          <p:cNvSpPr/>
          <p:nvPr/>
        </p:nvSpPr>
        <p:spPr>
          <a:xfrm flipH="1">
            <a:off x="4296960" y="2955960"/>
            <a:ext cx="1630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More on units</a:t>
            </a:r>
            <a:br>
              <a:rPr sz="4400"/>
            </a:b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669960" y="1401480"/>
            <a:ext cx="7772400" cy="47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member that units can be canceled just like number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can also be multiplied like numb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2 x 12 = 1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= 14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2m x 12m = 144 m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5 cm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=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2 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 sec        se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Flowchart: Document 4"/>
          <p:cNvSpPr/>
          <p:nvPr/>
        </p:nvSpPr>
        <p:spPr>
          <a:xfrm>
            <a:off x="7615080" y="603360"/>
            <a:ext cx="1319400" cy="660240"/>
          </a:xfrm>
          <a:prstGeom prst="flowChartDocument">
            <a:avLst/>
          </a:prstGeom>
          <a:solidFill>
            <a:srgbClr val="ff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Measurement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7840" y="892080"/>
            <a:ext cx="8966160" cy="563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make measurements every day: buying products, sports activities, and coo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c00"/>
                </a:solidFill>
                <a:uFillTx/>
                <a:latin typeface="Arial"/>
              </a:rPr>
              <a:t>Qualitativ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easurements are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word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such as heavy or h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c00"/>
                </a:solidFill>
                <a:uFillTx/>
                <a:latin typeface="Arial"/>
              </a:rPr>
              <a:t>Quantitativ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easurements involve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number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quantities), and depend 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c00"/>
                </a:solidFill>
                <a:uFillTx/>
                <a:latin typeface="Arial"/>
              </a:rPr>
              <a:t>Scientific No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efficient raised to power of 10   (ex. 1.3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7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4 x 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= 34000.0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Decimal place moves 4 to the righ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4 x 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-4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= 0.00034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Decimal place moves 4 to the lef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view:  Textbook pages 14 &amp; 1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Flowchart: Document 3"/>
          <p:cNvSpPr/>
          <p:nvPr/>
        </p:nvSpPr>
        <p:spPr>
          <a:xfrm>
            <a:off x="7045200" y="299880"/>
            <a:ext cx="1319400" cy="658800"/>
          </a:xfrm>
          <a:prstGeom prst="flowChartDocument">
            <a:avLst/>
          </a:prstGeom>
          <a:solidFill>
            <a:srgbClr val="ff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797040"/>
            <a:ext cx="7772400" cy="76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Go back to question   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ive the proper unit for each of the numeric answers calculated the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Oval 5"/>
          <p:cNvSpPr/>
          <p:nvPr/>
        </p:nvSpPr>
        <p:spPr>
          <a:xfrm>
            <a:off x="7639200" y="2185920"/>
            <a:ext cx="704880" cy="7034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Oval 5"/>
          <p:cNvSpPr/>
          <p:nvPr/>
        </p:nvSpPr>
        <p:spPr>
          <a:xfrm>
            <a:off x="7761240" y="798480"/>
            <a:ext cx="704880" cy="7034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797040"/>
            <a:ext cx="7772400" cy="76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That’s the end!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assignment is due by Thursday (9/17/09)  If you did not complete it in class, it is homewor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nd in your completed paper to the completed assignment bask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00200" y="1904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Accuracy, Precision, and Error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77840" y="1574640"/>
            <a:ext cx="8748720" cy="48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t is necessary to make good, reliable measurements in the la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"/>
              </a:rPr>
              <a:t>Accuracy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– how close a measurement is to the true val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low level of uncertainty in measuremen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"/>
              </a:rPr>
              <a:t>Precision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– how close the measurements are to each other (reproducible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Flowchart: Document 3"/>
          <p:cNvSpPr/>
          <p:nvPr/>
        </p:nvSpPr>
        <p:spPr>
          <a:xfrm>
            <a:off x="7599240" y="914400"/>
            <a:ext cx="1319400" cy="658800"/>
          </a:xfrm>
          <a:prstGeom prst="flowChartDocument">
            <a:avLst/>
          </a:prstGeom>
          <a:solidFill>
            <a:srgbClr val="ff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86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Precision and Accuracy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1371600" y="2284560"/>
            <a:ext cx="73152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1371600" y="4083120"/>
            <a:ext cx="7770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8" name="Picture 6" descr="neither"/>
          <p:cNvPicPr/>
          <p:nvPr/>
        </p:nvPicPr>
        <p:blipFill>
          <a:blip r:embed="rId1"/>
          <a:stretch/>
        </p:blipFill>
        <p:spPr>
          <a:xfrm>
            <a:off x="255600" y="2303640"/>
            <a:ext cx="2125800" cy="18064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pic>
        <p:nvPicPr>
          <p:cNvPr id="169" name="Picture 7" descr="precise"/>
          <p:cNvPicPr/>
          <p:nvPr/>
        </p:nvPicPr>
        <p:blipFill>
          <a:blip r:embed="rId2"/>
          <a:stretch/>
        </p:blipFill>
        <p:spPr>
          <a:xfrm>
            <a:off x="3354480" y="2278080"/>
            <a:ext cx="2206440" cy="17938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pic>
        <p:nvPicPr>
          <p:cNvPr id="170" name="Picture 8" descr="accurate"/>
          <p:cNvPicPr/>
          <p:nvPr/>
        </p:nvPicPr>
        <p:blipFill>
          <a:blip r:embed="rId3"/>
          <a:stretch/>
        </p:blipFill>
        <p:spPr>
          <a:xfrm>
            <a:off x="6732720" y="2330280"/>
            <a:ext cx="2114280" cy="181800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sp>
        <p:nvSpPr>
          <p:cNvPr id="171" name="Text Box 9"/>
          <p:cNvSpPr/>
          <p:nvPr/>
        </p:nvSpPr>
        <p:spPr>
          <a:xfrm>
            <a:off x="254160" y="4340160"/>
            <a:ext cx="2225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ither accurate nor preci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Text Box 10"/>
          <p:cNvSpPr/>
          <p:nvPr/>
        </p:nvSpPr>
        <p:spPr>
          <a:xfrm>
            <a:off x="3341520" y="4270320"/>
            <a:ext cx="2271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cise, but not accur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Text Box 11"/>
          <p:cNvSpPr/>
          <p:nvPr/>
        </p:nvSpPr>
        <p:spPr>
          <a:xfrm>
            <a:off x="6702480" y="4346640"/>
            <a:ext cx="2149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cise AND accur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How often is this clock accurate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75" name="Picture 2" descr="http://t3.gstatic.com/images?q=tbn:1G5DM8RST-od5M:http://1.bp.blogspot.com/_P4z-yK0VM_Q/ShMECFlfF1I/AAAAAAAAAGo/pB_ew7gTUN0/s320/broken%2Bclock.jpg"/>
          <p:cNvPicPr/>
          <p:nvPr/>
        </p:nvPicPr>
        <p:blipFill>
          <a:blip r:embed="rId1"/>
          <a:stretch/>
        </p:blipFill>
        <p:spPr>
          <a:xfrm>
            <a:off x="3027240" y="2136600"/>
            <a:ext cx="3025800" cy="3880080"/>
          </a:xfrm>
          <a:prstGeom prst="rect">
            <a:avLst/>
          </a:prstGeom>
          <a:ln w="0">
            <a:noFill/>
          </a:ln>
        </p:spPr>
      </p:pic>
      <p:sp>
        <p:nvSpPr>
          <p:cNvPr id="176" name="Oval 5"/>
          <p:cNvSpPr/>
          <p:nvPr/>
        </p:nvSpPr>
        <p:spPr>
          <a:xfrm>
            <a:off x="7959600" y="1274760"/>
            <a:ext cx="704880" cy="7034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Accuracy, Precision, and Error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89000" y="1981080"/>
            <a:ext cx="86500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cc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cc00"/>
                </a:solidFill>
                <a:uFillTx/>
                <a:latin typeface="Arial"/>
              </a:rPr>
              <a:t>Accepted value</a:t>
            </a:r>
            <a:r>
              <a:rPr b="0" lang="en-US" sz="4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= the correct value based on reliable referenc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cc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cc00"/>
                </a:solidFill>
                <a:uFillTx/>
                <a:latin typeface="Arial"/>
              </a:rPr>
              <a:t>Experimental value</a:t>
            </a:r>
            <a:r>
              <a:rPr b="0" lang="en-US" sz="4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= the value measured in the lab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Flowchart: Document 3"/>
          <p:cNvSpPr/>
          <p:nvPr/>
        </p:nvSpPr>
        <p:spPr>
          <a:xfrm>
            <a:off x="7570800" y="1184400"/>
            <a:ext cx="1317600" cy="658800"/>
          </a:xfrm>
          <a:prstGeom prst="flowChartDocument">
            <a:avLst/>
          </a:prstGeom>
          <a:solidFill>
            <a:srgbClr val="ff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12T13:32:03Z</dcterms:created>
  <dc:creator>Stephen L. Cotton</dc:creator>
  <dc:description/>
  <dc:language>en-US</dc:language>
  <cp:lastModifiedBy>rrita</cp:lastModifiedBy>
  <dcterms:modified xsi:type="dcterms:W3CDTF">2009-09-15T10:56:05Z</dcterms:modified>
  <cp:revision>106</cp:revision>
  <dc:subject/>
  <dc:title>Chapter 3 Scientific Measurement</dc:title>
</cp:coreProperties>
</file>