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9.png" ContentType="image/png"/>
  <Override PartName="/ppt/media/image7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94CC-DBD2-43FC-BBE1-6568A1390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AF1B-448A-4417-AC1C-105738B0F2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Full screen vie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– click screen in lower right corner (Internet Explorer 4.0 &amp; high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E488-857A-4CD4-9E20-529BADA365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9BE2-124C-4C59-A8F3-E3EB04ABE7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0463-F57E-4F13-9466-1485CC3973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C8C-4AEF-4675-AEB1-EEB6ED61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76F-3580-4554-8B72-06505471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54E-D84B-4FC7-83E7-FF59CB89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A1B-DF9D-47E7-8845-15EBFDF3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6053-5A84-4C5B-A4BA-8F30B63C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2E75-AAFC-4809-93A2-3E26BC76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9E4B-2D4A-4452-81FC-B10CDEFD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3AF9-D3B5-4D54-9873-7D3EFDEA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5B1E-7F55-44AF-9E27-BC827EB2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C3C8-E142-47B8-84C8-92517182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1D93-2044-4110-9F10-4B7EA029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2009-362E-4D83-9565-C9FAE230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4F0E-1C1B-4374-B630-5F853904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10D2-9E2B-48F5-A5AA-2CFB4FA2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4822-A18E-4C97-B7EF-1599DBAD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84D8-9F56-428E-ADE5-E89D4330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DB56-4BD7-4EA3-B45E-77366257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16A-C283-41F9-A64C-0E99EC25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81D-8AFA-4601-A20C-E2D882E5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D8E-21CD-473F-83A8-EC13E473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38F-DEC2-4D47-830B-E25FF864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0EA-FADC-4145-AB2D-0BEA188A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BD2-60C3-4E25-A113-C0E5AD8D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759E-7643-4B7E-9351-9B144123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4E32-99FD-4150-85E5-162321AD9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>
                <a:gd name="textAreaLeft" fmla="*/ -360 w 4038840"/>
                <a:gd name="textAreaRight" fmla="*/ 4038840 w 4038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26A8-E392-4814-AAF1-D0FDF66798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 PP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3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sheet of paper, take notes on this PowerPoint, and complete the indicated assig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pages are indicat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ions or answer pages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finished, hand in your calculaitons and answers p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work with a partner, but each of you must hand in an assig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lowchart: Document 3"/>
          <p:cNvSpPr/>
          <p:nvPr/>
        </p:nvSpPr>
        <p:spPr>
          <a:xfrm>
            <a:off x="6392880" y="28544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7189920" y="346716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9360" y="1630080"/>
            <a:ext cx="859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Error describes how accurate your measurement can possibly b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For any measuring device, error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1/2 of the smallest division on the devi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ermometer has an error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½ 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lowchart: Document 3"/>
          <p:cNvSpPr/>
          <p:nvPr/>
        </p:nvSpPr>
        <p:spPr>
          <a:xfrm>
            <a:off x="7824960" y="4953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the accepted error on this flask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Picture 4" descr="http://www.micro-science.co.uk/shop/catalog/images/erlenmeyer.jpg"/>
          <p:cNvPicPr/>
          <p:nvPr/>
        </p:nvPicPr>
        <p:blipFill>
          <a:blip r:embed="rId1"/>
          <a:stretch/>
        </p:blipFill>
        <p:spPr>
          <a:xfrm>
            <a:off x="3103560" y="1940040"/>
            <a:ext cx="2727360" cy="4233600"/>
          </a:xfrm>
          <a:prstGeom prst="rect">
            <a:avLst/>
          </a:prstGeom>
          <a:ln w="0">
            <a:noFill/>
          </a:ln>
        </p:spPr>
      </p:pic>
      <p:sp>
        <p:nvSpPr>
          <p:cNvPr id="185" name="Oval 5"/>
          <p:cNvSpPr/>
          <p:nvPr/>
        </p:nvSpPr>
        <p:spPr>
          <a:xfrm>
            <a:off x="7794720" y="235260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000" y="186840"/>
            <a:ext cx="871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y Is there Uncertaint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85720" y="8920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are performed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tru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no instrument can read to an infinite number of decimal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scale"/>
          <p:cNvPicPr/>
          <p:nvPr/>
        </p:nvPicPr>
        <p:blipFill>
          <a:blip r:embed="rId1"/>
          <a:stretch/>
        </p:blipFill>
        <p:spPr>
          <a:xfrm>
            <a:off x="3429000" y="3505320"/>
            <a:ext cx="2835360" cy="3352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604800" y="2374920"/>
            <a:ext cx="820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ich of the balances bel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the greatest uncertainty in measur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6" descr="scale4"/>
          <p:cNvPicPr/>
          <p:nvPr/>
        </p:nvPicPr>
        <p:blipFill>
          <a:blip r:embed="rId2"/>
          <a:stretch/>
        </p:blipFill>
        <p:spPr>
          <a:xfrm>
            <a:off x="162000" y="4191120"/>
            <a:ext cx="3114720" cy="20764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1" name="Picture 7" descr="scale8"/>
          <p:cNvPicPr/>
          <p:nvPr/>
        </p:nvPicPr>
        <p:blipFill>
          <a:blip r:embed="rId3"/>
          <a:stretch/>
        </p:blipFill>
        <p:spPr>
          <a:xfrm>
            <a:off x="6400800" y="3809880"/>
            <a:ext cx="2540160" cy="25401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2" name="Rectangle 8" descr=""/>
          <p:cNvPicPr/>
          <p:nvPr/>
        </p:nvPicPr>
        <p:blipFill>
          <a:blip r:embed="rId4"/>
          <a:stretch/>
        </p:blipFill>
        <p:spPr>
          <a:xfrm>
            <a:off x="1073160" y="3627360"/>
            <a:ext cx="145080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9" descr=""/>
          <p:cNvPicPr/>
          <p:nvPr/>
        </p:nvPicPr>
        <p:blipFill>
          <a:blip r:embed="rId5"/>
          <a:stretch/>
        </p:blipFill>
        <p:spPr>
          <a:xfrm>
            <a:off x="4029120" y="3133800"/>
            <a:ext cx="1407960" cy="113976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10" descr=""/>
          <p:cNvPicPr/>
          <p:nvPr/>
        </p:nvPicPr>
        <p:blipFill>
          <a:blip r:embed="rId6"/>
          <a:stretch/>
        </p:blipFill>
        <p:spPr>
          <a:xfrm>
            <a:off x="6997680" y="3164040"/>
            <a:ext cx="1451160" cy="1139760"/>
          </a:xfrm>
          <a:prstGeom prst="rect">
            <a:avLst/>
          </a:prstGeom>
          <a:ln w="0">
            <a:noFill/>
          </a:ln>
        </p:spPr>
      </p:pic>
      <p:sp>
        <p:nvSpPr>
          <p:cNvPr id="195" name="Oval 13"/>
          <p:cNvSpPr/>
          <p:nvPr/>
        </p:nvSpPr>
        <p:spPr>
          <a:xfrm>
            <a:off x="7974000" y="2338560"/>
            <a:ext cx="704880" cy="704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Calculated Answ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6320" y="1364760"/>
            <a:ext cx="89773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Arial"/>
              </a:rPr>
              <a:t>Rounding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or Mr. Rita’s class, you will round all measurements and calculations to no more than 2 decimal places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6800" y="264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Practi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0800" y="17524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3.24 m x 7.2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18040" y="114300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Cal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957840" y="1143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Rounded Numeric Ans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2520" y="24354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1.52 g ÷ 23.7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36800" y="31212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0.02 cm x 2.37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80280" y="380988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. 710 m ÷ 3.0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80360" y="45100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 1818.2 lb x 3.23 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145440" y="5195880"/>
            <a:ext cx="33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. 1.030 g x 2.87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is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I units of measurement and common SI prefix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an objec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Celsius and Kelvin temperature scal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1443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 (SI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1240" y="858960"/>
            <a:ext cx="8753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s depend up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uni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at serve as reference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andards of measurement used in science are those of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etric Syste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45584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ric system is now revised and named as the International System of Units (SI), as of 1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has simplicity, and is based on 10 or multiples of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 base uni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nly five commonly used in chemistry: meter, kilogram, kelvin, second, and mo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60320" y="890640"/>
            <a:ext cx="568332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hapter 1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i="1" lang="en-US" sz="4800" spc="-1" strike="noStrike">
                <a:solidFill>
                  <a:srgbClr val="ffcc00"/>
                </a:solidFill>
                <a:latin typeface="Arial Black"/>
              </a:rPr>
              <a:t>Scientific Measurement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2920" y="3922560"/>
            <a:ext cx="8449920" cy="26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tesy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les Page High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hen L. Cot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cottonchemistry.bizland.com/.../Chapter%203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cientific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asurement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.ppt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28" descr="scale2"/>
          <p:cNvPicPr/>
          <p:nvPr/>
        </p:nvPicPr>
        <p:blipFill>
          <a:blip r:embed="rId1"/>
          <a:stretch/>
        </p:blipFill>
        <p:spPr>
          <a:xfrm>
            <a:off x="920880" y="314280"/>
            <a:ext cx="2350800" cy="342756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82760" y="-19080"/>
            <a:ext cx="8269200" cy="13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Fundamental SI Unit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(Le Système International, SI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690480" y="1460520"/>
          <a:ext cx="777420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460520"/>
                    <a:ext cx="7774200" cy="5180040"/>
                  </a:xfrm>
                  <a:prstGeom prst="rect">
                    <a:avLst/>
                  </a:prstGeom>
                  <a:ln w="255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Flowchart: Document 3"/>
          <p:cNvSpPr/>
          <p:nvPr/>
        </p:nvSpPr>
        <p:spPr>
          <a:xfrm>
            <a:off x="7824960" y="196380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552680" y="1393920"/>
            <a:ext cx="5994360" cy="494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7760" y="0"/>
            <a:ext cx="8396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I Prefixes – Page 17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mmon to Chemist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76520" y="1498680"/>
          <a:ext cx="5740200" cy="4800600"/>
        </p:xfrm>
        <a:graphic>
          <a:graphicData uri="http://schemas.openxmlformats.org/drawingml/2006/table">
            <a:tbl>
              <a:tblPr/>
              <a:tblGrid>
                <a:gridCol w="1434960"/>
                <a:gridCol w="1434960"/>
                <a:gridCol w="1435320"/>
                <a:gridCol w="1434960"/>
              </a:tblGrid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Pre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Abbrev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anin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Expon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g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il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ect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k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Base Uni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c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ent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ll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cr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Flowchart: Document 3"/>
          <p:cNvSpPr/>
          <p:nvPr/>
        </p:nvSpPr>
        <p:spPr>
          <a:xfrm>
            <a:off x="7635960" y="13971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533520"/>
            <a:ext cx="914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600200" y="161460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125880" y="2865600"/>
            <a:ext cx="285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124080" y="3505320"/>
            <a:ext cx="346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355760" y="4540320"/>
            <a:ext cx="187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049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271600" y="5183280"/>
            <a:ext cx="59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871800" y="4540320"/>
            <a:ext cx="505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40147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7148520" y="5183280"/>
            <a:ext cx="59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ature of 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33256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1 –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mb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2 –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 measurements must have a unit! (no “naked” numb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14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6.63 x 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Arial"/>
              </a:rPr>
              <a:t>-34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 seco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184320" y="1295280"/>
            <a:ext cx="87516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asurement - quantitative observation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sisting of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2 part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lowchart: Document 14"/>
          <p:cNvSpPr/>
          <p:nvPr/>
        </p:nvSpPr>
        <p:spPr>
          <a:xfrm>
            <a:off x="7554960" y="1903320"/>
            <a:ext cx="1319040" cy="6606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ngt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SI, the basic unit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eng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(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ngth is the distance between two objects – measured with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make use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fix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units larger or sma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lowchart: Document 3"/>
          <p:cNvSpPr/>
          <p:nvPr/>
        </p:nvSpPr>
        <p:spPr>
          <a:xfrm>
            <a:off x="7464600" y="43488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1640" y="739440"/>
            <a:ext cx="8807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ace occupied by any sample of mat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ulated for a solid by multiplying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ength x width x heigh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 thus derived from units of leng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 unit =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ubic meter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m</a:t>
            </a:r>
            <a:r>
              <a:rPr b="1" lang="en-US" sz="4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day unit = Liter (L)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te: 1mL = 1c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lowchart: Document 3"/>
          <p:cNvSpPr/>
          <p:nvPr/>
        </p:nvSpPr>
        <p:spPr>
          <a:xfrm>
            <a:off x="7510320" y="13906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vices for Measuring Liquid 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aduated cylin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ip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r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rlenmeyer Flas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yrin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Ma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 a measure of the quantity of matter 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a force that measures the pull by gravity- it changes with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ss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a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regardless of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lowchart: Document 5"/>
          <p:cNvSpPr/>
          <p:nvPr/>
        </p:nvSpPr>
        <p:spPr>
          <a:xfrm>
            <a:off x="7585200" y="6746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ue or False?</a:t>
            </a:r>
            <a:br>
              <a:rPr sz="4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f false, re-write so it’s tru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760" y="19810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 speed limit on Evergreen Rd. is 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A beaker measures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1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equal to 1 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 base unit for mass is the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Our mass changes when we go to the m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. The metric system is based on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orking with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0720" y="1209240"/>
            <a:ext cx="87534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I unit of mass is th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kilogram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kg),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ven though a more convenient everyday unit is the 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Gram is to small to expr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asuring instrument is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balance sca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lowchart: Document 4"/>
          <p:cNvSpPr/>
          <p:nvPr/>
        </p:nvSpPr>
        <p:spPr>
          <a:xfrm>
            <a:off x="7615080" y="5097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Kg to g compari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paperclip has a mass of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6 week old puppy has a mass of about 1 ki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http://t2.gstatic.com/images?q=tbn:_mGSRRMnWmIkYM:http://barista.media2.org/wp-content/paper%2520clip%2520distortion.jpg"/>
          <p:cNvPicPr/>
          <p:nvPr/>
        </p:nvPicPr>
        <p:blipFill>
          <a:blip r:embed="rId3"/>
          <a:stretch/>
        </p:blipFill>
        <p:spPr>
          <a:xfrm>
            <a:off x="3421080" y="2662200"/>
            <a:ext cx="227484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t2.gstatic.com/images?q=tbn:_F-mI3RRqyCEDM:http://image-photo.weather.com/A5/77/full/A577B619-F815-4BEE-A2F3-BA82000CB9DF.jpg"/>
          <p:cNvPicPr/>
          <p:nvPr/>
        </p:nvPicPr>
        <p:blipFill>
          <a:blip r:embed="rId4"/>
          <a:stretch/>
        </p:blipFill>
        <p:spPr>
          <a:xfrm>
            <a:off x="5745240" y="4968720"/>
            <a:ext cx="2259000" cy="1690920"/>
          </a:xfrm>
          <a:prstGeom prst="rect">
            <a:avLst/>
          </a:prstGeom>
          <a:ln w="0">
            <a:noFill/>
          </a:ln>
        </p:spPr>
      </p:pic>
      <p:sp>
        <p:nvSpPr>
          <p:cNvPr id="261" name="Cloud Callout 5"/>
          <p:cNvSpPr/>
          <p:nvPr/>
        </p:nvSpPr>
        <p:spPr>
          <a:xfrm rot="19391400">
            <a:off x="4237200" y="5487480"/>
            <a:ext cx="2286000" cy="762120"/>
          </a:xfrm>
          <a:prstGeom prst="cloudCallout">
            <a:avLst>
              <a:gd name="adj1" fmla="val -17500"/>
              <a:gd name="adj2" fmla="val 36638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ff"/>
                </a:solidFill>
                <a:latin typeface="Bradley Hand ITC"/>
              </a:rPr>
              <a:t>AW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easurements to scientific not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ure is a measure of how hot or cold an object i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t moves from the object at the higher temperature to the object at the lower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use two units of temperatu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lsius – named after Anders Celsi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lvin – named after Lord Kel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039000" y="156852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easured 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rmome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Celsius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efined by two readily determined temperatures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eezing point of water = 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oiling point of water = 10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Kelvin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oes not use the degree sign, but is just represented by 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bsolute zero = 0 K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us no negativ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formula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to convert:  K =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 + 273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lowchart: Document 4"/>
          <p:cNvSpPr/>
          <p:nvPr/>
        </p:nvSpPr>
        <p:spPr>
          <a:xfrm>
            <a:off x="7615080" y="1679400"/>
            <a:ext cx="1319400" cy="65916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4"/>
          <p:cNvGraphicFramePr/>
          <p:nvPr/>
        </p:nvGraphicFramePr>
        <p:xfrm>
          <a:off x="0" y="0"/>
          <a:ext cx="9318600" cy="704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18600" cy="70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5"/>
          <p:cNvSpPr/>
          <p:nvPr/>
        </p:nvSpPr>
        <p:spPr>
          <a:xfrm>
            <a:off x="3990960" y="47952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Page 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8080200" y="600120"/>
            <a:ext cx="70344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Energ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13840" y="1012680"/>
            <a:ext cx="8767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is the capacity to do work, or to produce he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can also be measured, and two common units 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J) = the SI unit of energy, named after James Prescott Jo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lor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cal) = the heat needed to raise 1 gram of water by 1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ruc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nversion factors from equivalent measureme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ppl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techniques of dimensional analysis to a variety of conversion proble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lve problem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y breaking the solution into step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mplex units, using dimensional analys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194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945720"/>
            <a:ext cx="891540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“ratio” of equivalent measur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rt with two things that are the sam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ne meter is one hundred centime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rite it as an equ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 m = 100 c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 can divide on each side of the equation to come up with two ways of writing the number “1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2574720" y="1859040"/>
            <a:ext cx="4361760" cy="702000"/>
            <a:chOff x="2574720" y="1859040"/>
            <a:chExt cx="4361760" cy="702000"/>
          </a:xfrm>
        </p:grpSpPr>
        <p:sp>
          <p:nvSpPr>
            <p:cNvPr id="287" name="Rectangle 4"/>
            <p:cNvSpPr/>
            <p:nvPr/>
          </p:nvSpPr>
          <p:spPr>
            <a:xfrm>
              <a:off x="5241240" y="185904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2574720" y="185904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Rectangle 6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905120" y="2438280"/>
            <a:ext cx="5486400" cy="0"/>
            <a:chOff x="1905120" y="2438280"/>
            <a:chExt cx="5486400" cy="0"/>
          </a:xfrm>
        </p:grpSpPr>
        <p:sp>
          <p:nvSpPr>
            <p:cNvPr id="291" name="Line 8"/>
            <p:cNvSpPr/>
            <p:nvPr/>
          </p:nvSpPr>
          <p:spPr>
            <a:xfrm>
              <a:off x="1905120" y="24382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9"/>
            <p:cNvSpPr/>
            <p:nvPr/>
          </p:nvSpPr>
          <p:spPr>
            <a:xfrm>
              <a:off x="4952880" y="2438280"/>
              <a:ext cx="2438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Group 10"/>
          <p:cNvGrpSpPr/>
          <p:nvPr/>
        </p:nvGrpSpPr>
        <p:grpSpPr>
          <a:xfrm>
            <a:off x="2193120" y="2392200"/>
            <a:ext cx="4743360" cy="702000"/>
            <a:chOff x="2193120" y="2392200"/>
            <a:chExt cx="4743360" cy="702000"/>
          </a:xfrm>
        </p:grpSpPr>
        <p:sp>
          <p:nvSpPr>
            <p:cNvPr id="294" name="Rectangle 11"/>
            <p:cNvSpPr/>
            <p:nvPr/>
          </p:nvSpPr>
          <p:spPr>
            <a:xfrm>
              <a:off x="219312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12"/>
            <p:cNvSpPr/>
            <p:nvPr/>
          </p:nvSpPr>
          <p:spPr>
            <a:xfrm>
              <a:off x="524124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Line 13"/>
          <p:cNvSpPr/>
          <p:nvPr/>
        </p:nvSpPr>
        <p:spPr>
          <a:xfrm>
            <a:off x="5029200" y="1905120"/>
            <a:ext cx="2133720" cy="5331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5029200" y="2438280"/>
            <a:ext cx="2133720" cy="533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mong accuracy, precision, and error of a measure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7"/>
          <p:cNvGrpSpPr/>
          <p:nvPr/>
        </p:nvGrpSpPr>
        <p:grpSpPr>
          <a:xfrm>
            <a:off x="2422440" y="3611520"/>
            <a:ext cx="4361760" cy="702000"/>
            <a:chOff x="2422440" y="3611520"/>
            <a:chExt cx="4361760" cy="702000"/>
          </a:xfrm>
        </p:grpSpPr>
        <p:sp>
          <p:nvSpPr>
            <p:cNvPr id="310" name="Rectangle 8"/>
            <p:cNvSpPr/>
            <p:nvPr/>
          </p:nvSpPr>
          <p:spPr>
            <a:xfrm>
              <a:off x="5088960" y="361152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4174560" y="3611520"/>
              <a:ext cx="471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422440" y="36115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Line 11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1828800" y="4267080"/>
            <a:ext cx="5257800" cy="0"/>
            <a:chOff x="1828800" y="4267080"/>
            <a:chExt cx="5257800" cy="0"/>
          </a:xfrm>
        </p:grpSpPr>
        <p:sp>
          <p:nvSpPr>
            <p:cNvPr id="315" name="Line 13"/>
            <p:cNvSpPr/>
            <p:nvPr/>
          </p:nvSpPr>
          <p:spPr>
            <a:xfrm>
              <a:off x="182880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464832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Group 15"/>
          <p:cNvGrpSpPr/>
          <p:nvPr/>
        </p:nvGrpSpPr>
        <p:grpSpPr>
          <a:xfrm>
            <a:off x="2422440" y="4297320"/>
            <a:ext cx="3780360" cy="702000"/>
            <a:chOff x="2422440" y="4297320"/>
            <a:chExt cx="3780360" cy="702000"/>
          </a:xfrm>
        </p:grpSpPr>
        <p:sp>
          <p:nvSpPr>
            <p:cNvPr id="318" name="Rectangle 16"/>
            <p:cNvSpPr/>
            <p:nvPr/>
          </p:nvSpPr>
          <p:spPr>
            <a:xfrm>
              <a:off x="242244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7"/>
            <p:cNvSpPr/>
            <p:nvPr/>
          </p:nvSpPr>
          <p:spPr>
            <a:xfrm>
              <a:off x="524196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Line 18"/>
          <p:cNvSpPr/>
          <p:nvPr/>
        </p:nvSpPr>
        <p:spPr>
          <a:xfrm>
            <a:off x="2286000" y="3733920"/>
            <a:ext cx="1219320" cy="38088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362320" y="4495680"/>
            <a:ext cx="1218960" cy="38124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5088960" y="361152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174560" y="361152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4648320" y="42670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241960" y="429732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260520" y="361800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67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840" y="958320"/>
            <a:ext cx="8759880" cy="529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unique way of writing the number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quivalence statements always have this relationship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big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mall unit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small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ig uni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1000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m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ich below are good conversion factor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inch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mplete the co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4 cm              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kilome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0 m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li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class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0 day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7974000" y="134784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5108400" y="3497400"/>
            <a:ext cx="1640160" cy="46512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811760" y="5173560"/>
            <a:ext cx="2373120" cy="48744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1800" y="174600"/>
            <a:ext cx="8445600" cy="21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actice by writing the 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two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ssible conversion factors for the following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. Between kilograms and 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between feet and in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using 1.0 gal. = 3.8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7989840" y="18255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nversion factors; what are they good for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671480"/>
            <a:ext cx="793260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multiply by the number “one” creatively to change the un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13 inches is how many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that 36 inches = 1 y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=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 x     13 inches     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1147680" y="447516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1117440" y="571644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lowchart: Document 4"/>
          <p:cNvSpPr/>
          <p:nvPr/>
        </p:nvSpPr>
        <p:spPr>
          <a:xfrm>
            <a:off x="7542360" y="111456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685800" y="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re’s how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04920" y="114300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Q: 13 inches equals how many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</a:rPr>
              <a:t>yards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e know that 1 yard = 36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nce we need an answer in yards, that goes on the top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Now multiply by 13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849840" y="469908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1270080" y="525924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Oval Callout 7"/>
          <p:cNvSpPr/>
          <p:nvPr/>
        </p:nvSpPr>
        <p:spPr>
          <a:xfrm>
            <a:off x="5889600" y="2919240"/>
            <a:ext cx="2424240" cy="1322640"/>
          </a:xfrm>
          <a:prstGeom prst="wedgeEllipseCallout">
            <a:avLst>
              <a:gd name="adj1" fmla="val -92574"/>
              <a:gd name="adj2" fmla="val 108949"/>
            </a:avLst>
          </a:prstGeom>
          <a:solidFill>
            <a:srgbClr val="fabe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nits cancel o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just lik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numbers d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Group 9"/>
          <p:cNvGrpSpPr/>
          <p:nvPr/>
        </p:nvGrpSpPr>
        <p:grpSpPr>
          <a:xfrm>
            <a:off x="644400" y="4541760"/>
            <a:ext cx="2248200" cy="1191240"/>
            <a:chOff x="644400" y="4541760"/>
            <a:chExt cx="2248200" cy="1191240"/>
          </a:xfrm>
        </p:grpSpPr>
        <p:sp>
          <p:nvSpPr>
            <p:cNvPr id="354" name="Line 5"/>
            <p:cNvSpPr/>
            <p:nvPr/>
          </p:nvSpPr>
          <p:spPr>
            <a:xfrm>
              <a:off x="655560" y="5121000"/>
              <a:ext cx="175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TextBox 8"/>
            <p:cNvSpPr/>
            <p:nvPr/>
          </p:nvSpPr>
          <p:spPr>
            <a:xfrm>
              <a:off x="644400" y="4541760"/>
              <a:ext cx="224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 yar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 inch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TextBox 11"/>
          <p:cNvSpPr/>
          <p:nvPr/>
        </p:nvSpPr>
        <p:spPr>
          <a:xfrm>
            <a:off x="2622600" y="455760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   13 inches 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Box 12"/>
          <p:cNvSpPr/>
          <p:nvPr/>
        </p:nvSpPr>
        <p:spPr>
          <a:xfrm>
            <a:off x="5921280" y="4557600"/>
            <a:ext cx="2187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0.36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Curved Up Arrow 14"/>
          <p:cNvSpPr/>
          <p:nvPr/>
        </p:nvSpPr>
        <p:spPr>
          <a:xfrm>
            <a:off x="1843200" y="5181480"/>
            <a:ext cx="5718240" cy="1044720"/>
          </a:xfrm>
          <a:custGeom>
            <a:avLst/>
            <a:gdLst>
              <a:gd name="textAreaLeft" fmla="*/ 1331640 w 5718240"/>
              <a:gd name="textAreaRight" fmla="*/ 4255920 w 5718240"/>
              <a:gd name="textAreaTop" fmla="*/ 139680 h 1044720"/>
              <a:gd name="textAreaBottom" fmla="*/ 9050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-3659805"/>
                <a:lnTo>
                  <a:pt x="21281" y="5400"/>
                </a:lnTo>
                <a:lnTo>
                  <a:pt x="20613" y="0"/>
                </a:lnTo>
                <a:lnTo>
                  <a:pt x="19307" y="5400"/>
                </a:lnTo>
                <a:lnTo>
                  <a:pt x="19801" y="5400"/>
                </a:lnTo>
                <a:arcTo wR="10060" hR="21600" stAng="1740195" swAng="3581261"/>
                <a:lnTo>
                  <a:pt x="10553" y="21574"/>
                </a:lnTo>
                <a:arcTo wR="10060" hR="21600" stAng="5478544" swAng="5321456"/>
                <a:close/>
              </a:path>
              <a:path fill="darkenLess"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78544"/>
                <a:lnTo>
                  <a:pt x="10553" y="21574"/>
                </a:lnTo>
                <a:arcTo wR="10060" hR="21600" stAng="5478544" swAng="5321456"/>
                <a:close/>
              </a:path>
            </a:pathLst>
          </a:custGeom>
          <a:solidFill>
            <a:srgbClr val="9ce157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Oval 15"/>
          <p:cNvSpPr/>
          <p:nvPr/>
        </p:nvSpPr>
        <p:spPr>
          <a:xfrm>
            <a:off x="3948120" y="5529240"/>
            <a:ext cx="1843200" cy="1133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Remaining u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goes with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t’s practice!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must show all work like shown below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meters are in 100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x         cm  x                inches   x          yard  =              cm               inches               y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ow many centimeters are in a f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How many minutes are in a 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One lap around the track is 400 meters.  How many miles is this equal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not ¼ of a mile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5"/>
          <p:cNvSpPr/>
          <p:nvPr/>
        </p:nvSpPr>
        <p:spPr>
          <a:xfrm>
            <a:off x="8005680" y="40320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28908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30492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2239920" y="260676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225576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4359240" y="259092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4359240" y="2987640"/>
            <a:ext cx="639720" cy="3351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638496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Straight Connector 15"/>
          <p:cNvSpPr/>
          <p:nvPr/>
        </p:nvSpPr>
        <p:spPr>
          <a:xfrm flipH="1">
            <a:off x="19800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Straight Connector 16"/>
          <p:cNvSpPr/>
          <p:nvPr/>
        </p:nvSpPr>
        <p:spPr>
          <a:xfrm flipH="1">
            <a:off x="216324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Straight Connector 17"/>
          <p:cNvSpPr/>
          <p:nvPr/>
        </p:nvSpPr>
        <p:spPr>
          <a:xfrm flipH="1">
            <a:off x="4296960" y="295596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ore on unit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69960" y="1401480"/>
            <a:ext cx="77724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 units can be canceled just like numb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also be multiplied lik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x 12 =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m x 12m = 144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5 c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sec        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lowchart: Document 4"/>
          <p:cNvSpPr/>
          <p:nvPr/>
        </p:nvSpPr>
        <p:spPr>
          <a:xfrm>
            <a:off x="7615080" y="6033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7840" y="892080"/>
            <a:ext cx="8966160" cy="56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measurements every day: buying products, sports activities, and c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l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ch as heavy or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nt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invol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u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quantities), and depend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Scientific 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efficient raised to power of 10   (ex. 1.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34000.0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.0003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le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:  Textbook pages 14 &amp;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lowchart: Document 3"/>
          <p:cNvSpPr/>
          <p:nvPr/>
        </p:nvSpPr>
        <p:spPr>
          <a:xfrm>
            <a:off x="7045200" y="2998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o back to question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proper unit for each of the numeric answers calculated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5"/>
          <p:cNvSpPr/>
          <p:nvPr/>
        </p:nvSpPr>
        <p:spPr>
          <a:xfrm>
            <a:off x="7639200" y="218592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761240" y="79848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at’s the end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assignment is due by Thursday (9/17/09)  If you did not complete it in class, it is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in your completed paper to the completed assignment bask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0200" y="1904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7840" y="1574640"/>
            <a:ext cx="874872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necessary to make good, reliable measurements in the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Accurac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a measurement is to the true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w level of uncertainty in measure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Precis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the measurements are to each other (reproducib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lowchart: Document 3"/>
          <p:cNvSpPr/>
          <p:nvPr/>
        </p:nvSpPr>
        <p:spPr>
          <a:xfrm>
            <a:off x="7599240" y="91440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 and Accurac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371600" y="2284560"/>
            <a:ext cx="731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371600" y="4083120"/>
            <a:ext cx="777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neither"/>
          <p:cNvPicPr/>
          <p:nvPr/>
        </p:nvPicPr>
        <p:blipFill>
          <a:blip r:embed="rId1"/>
          <a:stretch/>
        </p:blipFill>
        <p:spPr>
          <a:xfrm>
            <a:off x="255600" y="2303640"/>
            <a:ext cx="2125800" cy="18064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69" name="Picture 7" descr="precise"/>
          <p:cNvPicPr/>
          <p:nvPr/>
        </p:nvPicPr>
        <p:blipFill>
          <a:blip r:embed="rId2"/>
          <a:stretch/>
        </p:blipFill>
        <p:spPr>
          <a:xfrm>
            <a:off x="3354480" y="2278080"/>
            <a:ext cx="2206440" cy="17938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70" name="Picture 8" descr="accurate"/>
          <p:cNvPicPr/>
          <p:nvPr/>
        </p:nvPicPr>
        <p:blipFill>
          <a:blip r:embed="rId3"/>
          <a:stretch/>
        </p:blipFill>
        <p:spPr>
          <a:xfrm>
            <a:off x="6732720" y="2330280"/>
            <a:ext cx="2114280" cy="1818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71" name="Text Box 9"/>
          <p:cNvSpPr/>
          <p:nvPr/>
        </p:nvSpPr>
        <p:spPr>
          <a:xfrm>
            <a:off x="254160" y="4340160"/>
            <a:ext cx="222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accurate nor pre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341520" y="4270320"/>
            <a:ext cx="22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, but not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702480" y="4346640"/>
            <a:ext cx="214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 AND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w often is this clock accur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Picture 2" descr="http://t3.gstatic.com/images?q=tbn:1G5DM8RST-od5M:http://1.bp.blogspot.com/_P4z-yK0VM_Q/ShMECFlfF1I/AAAAAAAAAGo/pB_ew7gTUN0/s320/broken%2Bclock.jpg"/>
          <p:cNvPicPr/>
          <p:nvPr/>
        </p:nvPicPr>
        <p:blipFill>
          <a:blip r:embed="rId1"/>
          <a:stretch/>
        </p:blipFill>
        <p:spPr>
          <a:xfrm>
            <a:off x="3027240" y="2136600"/>
            <a:ext cx="3025800" cy="388008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959600" y="12747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9000" y="1981080"/>
            <a:ext cx="86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Accepted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correct value based on reliable referen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Experimental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value measured in the la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lowchart: Document 3"/>
          <p:cNvSpPr/>
          <p:nvPr/>
        </p:nvSpPr>
        <p:spPr>
          <a:xfrm>
            <a:off x="7570800" y="1184400"/>
            <a:ext cx="13176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2T13:32:03Z</dcterms:created>
  <dc:creator>Stephen L. Cotton</dc:creator>
  <dc:description/>
  <dc:language>en-US</dc:language>
  <cp:lastModifiedBy>rrita</cp:lastModifiedBy>
  <dcterms:modified xsi:type="dcterms:W3CDTF">2009-09-15T10:56:05Z</dcterms:modified>
  <cp:revision>106</cp:revision>
  <dc:subject/>
  <dc:title>Chapter 3 Scientific Measurement</dc:title>
</cp:coreProperties>
</file>