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2.gif" ContentType="image/gif"/>
  <Override PartName="/ppt/media/image9.png" ContentType="image/png"/>
  <Override PartName="/ppt/media/image7.png" ContentType="image/png"/>
  <Override PartName="/ppt/media/image13.jpeg" ContentType="image/jpeg"/>
  <Override PartName="/ppt/media/image4.png" ContentType="image/png"/>
  <Override PartName="/ppt/media/image12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E275-F56D-4036-A1A9-12D8171E7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31EA-80EC-41A2-B648-1AF591E04B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Full screen vie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– click screen in lower right corner (Internet Explorer 4.0 &amp; high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C3AA-8DB9-434C-928F-7B42B3495D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B599-33AF-4A91-BD42-620EDE15AC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38D0-7965-44CD-BDD6-212F3BFE43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DEBE-CC05-4A8F-B0C8-1D9092B9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D3E2-7BFC-4B1C-A535-99310AD3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D782-D5FF-4D5E-90DE-A324F008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39BE-C481-4B58-9C2B-6B4053E44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8169-93CD-4B87-A13D-F30DF12FB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39EB-F5E0-48C1-972C-B4DF27DC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B365-14E2-409A-84BA-04F5A844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B75D-2EFD-4924-AF07-4DE977F1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A207-D68D-42BB-9701-DA7D34D8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12B9-4CBE-4CCA-B8EE-878E2985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BF61-E020-4989-BD77-61E8BB2D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3F45-E892-4FA1-91C0-2E5C7AF6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7402-58C2-4DDB-8962-68576506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64C3-7B79-4AE9-B1B7-38B8DAD7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7956-891E-496A-ABDE-36E06C08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4D3D-C3EF-4F0B-9423-552B8304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3CC2-DB6D-4CC8-8CC6-21882BAE6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1700-D215-453A-880C-234F24B8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BC77-E669-4CAC-B800-200BA96B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8DC7-3D42-42BD-AB00-77738E16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EF87-5757-415D-A147-C3C6AABA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13C5-C263-49D0-A658-B9C99C4B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D2FE-6A18-43EA-B6C7-52067672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F09E-CB13-4B8F-9774-613B6D89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878160"/>
                <a:gd name="textAreaBottom" fmla="*/ 6878520 h 687816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872040"/>
                <a:gd name="textAreaBottom" fmla="*/ 6872400 h 68720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873480"/>
                <a:gd name="textAreaBottom" fmla="*/ 6873840 h 687348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864120"/>
                <a:gd name="textAreaBottom" fmla="*/ 6864480 h 686412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7920"/>
                <a:gd name="textAreaBottom" fmla="*/ 2438280 h 2437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>
                <a:gd name="textAreaLeft" fmla="*/ 360 w 4038480"/>
                <a:gd name="textAreaRight" fmla="*/ 4039200 w 403848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7920"/>
                <a:gd name="textAreaBottom" fmla="*/ 2438280 h 2437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>
                <a:gd name="textAreaLeft" fmla="*/ 0 w 5562360"/>
                <a:gd name="textAreaRight" fmla="*/ 5562720 w 556236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>
                <a:gd name="textAreaLeft" fmla="*/ 0 w 5705640"/>
                <a:gd name="textAreaRight" fmla="*/ 5706000 w 5705640"/>
                <a:gd name="textAreaTop" fmla="*/ 0 h 2754000"/>
                <a:gd name="textAreaBottom" fmla="*/ 2754360 h 27540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>
                <a:gd name="textAreaLeft" fmla="*/ -360 w 5562360"/>
                <a:gd name="textAreaRight" fmla="*/ 5562360 w 556236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>
                <a:gd name="textAreaLeft" fmla="*/ 0 w 1729080"/>
                <a:gd name="textAreaRight" fmla="*/ 1729440 w 1729080"/>
                <a:gd name="textAreaTop" fmla="*/ 0 h 3627000"/>
                <a:gd name="textAreaBottom" fmla="*/ 3627360 h 3627000"/>
              </a:gdLst>
              <a:ahLst/>
              <a:rect l="textAreaLeft" t="textAreaTop" r="textAreaRight" b="textAreaBottom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05880"/>
                <a:gd name="textAreaBottom" fmla="*/ 606240 h 60588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04440"/>
                <a:gd name="textAreaBottom" fmla="*/ 604800 h 6044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05880"/>
                <a:gd name="textAreaBottom" fmla="*/ 606240 h 60588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04440"/>
                <a:gd name="textAreaBottom" fmla="*/ 604800 h 60444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>
                <a:gd name="textAreaLeft" fmla="*/ 0 w 1644840"/>
                <a:gd name="textAreaRight" fmla="*/ 1645200 w 164484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>
                <a:gd name="textAreaLeft" fmla="*/ 360 w 1682640"/>
                <a:gd name="textAreaRight" fmla="*/ 1683360 w 16826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>
                <a:gd name="textAreaLeft" fmla="*/ 360 w 1682640"/>
                <a:gd name="textAreaRight" fmla="*/ 1683360 w 16826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>
                <a:gd name="textAreaLeft" fmla="*/ -360 w 1641240"/>
                <a:gd name="textAreaRight" fmla="*/ 1641240 w 164124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>
                <a:gd name="textAreaLeft" fmla="*/ -360 w 5638680"/>
                <a:gd name="textAreaRight" fmla="*/ 5638680 w 563868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>
                <a:gd name="textAreaLeft" fmla="*/ 360 w 2114640"/>
                <a:gd name="textAreaRight" fmla="*/ 2115360 w 2114640"/>
                <a:gd name="textAreaTop" fmla="*/ 360 h 607680"/>
                <a:gd name="textAreaBottom" fmla="*/ 608400 h 6076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>
                <a:gd name="textAreaLeft" fmla="*/ 360 w 3657600"/>
                <a:gd name="textAreaRight" fmla="*/ 3658320 w 365760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F08E-4BB7-4DEB-85DD-9DEC03BF4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878520"/>
                <a:gd name="textAreaBottom" fmla="*/ 6878880 h 687852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872400"/>
                <a:gd name="textAreaBottom" fmla="*/ 6872760 h 687240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873840"/>
                <a:gd name="textAreaBottom" fmla="*/ 6874200 h 687384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864480"/>
                <a:gd name="textAreaBottom" fmla="*/ 6864840 h 686448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>
                <a:gd name="textAreaLeft" fmla="*/ -360 w 4038840"/>
                <a:gd name="textAreaRight" fmla="*/ 4038840 w 403884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>
                <a:gd name="textAreaLeft" fmla="*/ 0 w 5705640"/>
                <a:gd name="textAreaRight" fmla="*/ 5706000 w 5705640"/>
                <a:gd name="textAreaTop" fmla="*/ 0 h 2754360"/>
                <a:gd name="textAreaBottom" fmla="*/ 2754360 h 27543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>
                <a:gd name="textAreaLeft" fmla="*/ -360 w 5562360"/>
                <a:gd name="textAreaRight" fmla="*/ 5562360 w 5562360"/>
                <a:gd name="textAreaTop" fmla="*/ 0 h 2438640"/>
                <a:gd name="textAreaBottom" fmla="*/ 2439000 h 24386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>
                <a:gd name="textAreaLeft" fmla="*/ 0 w 1729080"/>
                <a:gd name="textAreaRight" fmla="*/ 1729440 w 1729080"/>
                <a:gd name="textAreaTop" fmla="*/ 0 h 3627360"/>
                <a:gd name="textAreaBottom" fmla="*/ 3627720 h 3627360"/>
              </a:gdLst>
              <a:ahLst/>
              <a:rect l="textAreaLeft" t="textAreaTop" r="textAreaRight" b="textAreaBottom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>
                <a:gd name="textAreaLeft" fmla="*/ 0 w 1644840"/>
                <a:gd name="textAreaRight" fmla="*/ 1645200 w 164484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>
                <a:gd name="textAreaLeft" fmla="*/ -360 w 1683000"/>
                <a:gd name="textAreaRight" fmla="*/ 1683000 w 16830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>
                <a:gd name="textAreaLeft" fmla="*/ -360 w 1683000"/>
                <a:gd name="textAreaRight" fmla="*/ 1683000 w 16830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>
                <a:gd name="textAreaLeft" fmla="*/ 360 w 1641600"/>
                <a:gd name="textAreaRight" fmla="*/ 1642320 w 164160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>
                <a:gd name="textAreaLeft" fmla="*/ -360 w 5638680"/>
                <a:gd name="textAreaRight" fmla="*/ 5638680 w 563868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>
                <a:gd name="textAreaLeft" fmla="*/ 360 w 2114640"/>
                <a:gd name="textAreaRight" fmla="*/ 2115360 w 2114640"/>
                <a:gd name="textAreaTop" fmla="*/ -360 h 608040"/>
                <a:gd name="textAreaBottom" fmla="*/ 608040 h 6080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>
                <a:gd name="textAreaLeft" fmla="*/ 360 w 3657600"/>
                <a:gd name="textAreaRight" fmla="*/ 3658320 w 365760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E0EB-B927-4A81-B9C0-60FA869685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 PP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3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a sheet of paper, take notes on this PowerPoint, and complete the indicated assign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 pages are indicated b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ions or answer pages 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finished, hand in your calculaitons and answers pag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work with a partner, but each of you must hand in an assig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Flowchart: Document 3"/>
          <p:cNvSpPr/>
          <p:nvPr/>
        </p:nvSpPr>
        <p:spPr>
          <a:xfrm>
            <a:off x="6392880" y="285444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7189920" y="3467160"/>
            <a:ext cx="704880" cy="703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curacy, Precision, and Erro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79360" y="1630080"/>
            <a:ext cx="8599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Error describes how accurate your measurement can possibly b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For any measuring device, error i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1/2 of the smallest division on the devic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thermometer has an error of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 ½ 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Flowchart: Document 3"/>
          <p:cNvSpPr/>
          <p:nvPr/>
        </p:nvSpPr>
        <p:spPr>
          <a:xfrm>
            <a:off x="7824960" y="49536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at is the accepted error on this flask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4" name="Picture 4" descr="http://www.micro-science.co.uk/shop/catalog/images/erlenmeyer.jpg"/>
          <p:cNvPicPr/>
          <p:nvPr/>
        </p:nvPicPr>
        <p:blipFill>
          <a:blip r:embed="rId1"/>
          <a:stretch/>
        </p:blipFill>
        <p:spPr>
          <a:xfrm>
            <a:off x="3103560" y="1940040"/>
            <a:ext cx="2727360" cy="4233600"/>
          </a:xfrm>
          <a:prstGeom prst="rect">
            <a:avLst/>
          </a:prstGeom>
          <a:ln w="0">
            <a:noFill/>
          </a:ln>
        </p:spPr>
      </p:pic>
      <p:sp>
        <p:nvSpPr>
          <p:cNvPr id="185" name="Oval 5"/>
          <p:cNvSpPr/>
          <p:nvPr/>
        </p:nvSpPr>
        <p:spPr>
          <a:xfrm>
            <a:off x="7794720" y="2352600"/>
            <a:ext cx="70488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3000" y="186840"/>
            <a:ext cx="8712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y Is there Uncertainty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585720" y="89208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ments are performed 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strum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no instrument can read to an infinite number of decimal pl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4" descr="scale"/>
          <p:cNvPicPr/>
          <p:nvPr/>
        </p:nvPicPr>
        <p:blipFill>
          <a:blip r:embed="rId1"/>
          <a:stretch/>
        </p:blipFill>
        <p:spPr>
          <a:xfrm>
            <a:off x="3429000" y="3505320"/>
            <a:ext cx="2835360" cy="33526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sp>
        <p:nvSpPr>
          <p:cNvPr id="189" name="Text Box 5"/>
          <p:cNvSpPr/>
          <p:nvPr/>
        </p:nvSpPr>
        <p:spPr>
          <a:xfrm>
            <a:off x="604800" y="2374920"/>
            <a:ext cx="820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ich of the balances belo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s the greatest uncertainty in measurem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6" descr="scale4"/>
          <p:cNvPicPr/>
          <p:nvPr/>
        </p:nvPicPr>
        <p:blipFill>
          <a:blip r:embed="rId2"/>
          <a:stretch/>
        </p:blipFill>
        <p:spPr>
          <a:xfrm>
            <a:off x="162000" y="4191120"/>
            <a:ext cx="3114720" cy="20764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191" name="Picture 7" descr="scale8"/>
          <p:cNvPicPr/>
          <p:nvPr/>
        </p:nvPicPr>
        <p:blipFill>
          <a:blip r:embed="rId3"/>
          <a:stretch/>
        </p:blipFill>
        <p:spPr>
          <a:xfrm>
            <a:off x="6400800" y="3809880"/>
            <a:ext cx="2540160" cy="254016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192" name="Rectangle 8" descr=""/>
          <p:cNvPicPr/>
          <p:nvPr/>
        </p:nvPicPr>
        <p:blipFill>
          <a:blip r:embed="rId4"/>
          <a:stretch/>
        </p:blipFill>
        <p:spPr>
          <a:xfrm>
            <a:off x="1073160" y="3627360"/>
            <a:ext cx="1450800" cy="1139760"/>
          </a:xfrm>
          <a:prstGeom prst="rect">
            <a:avLst/>
          </a:prstGeom>
          <a:ln w="0">
            <a:noFill/>
          </a:ln>
        </p:spPr>
      </p:pic>
      <p:pic>
        <p:nvPicPr>
          <p:cNvPr id="193" name="Rectangle 9" descr=""/>
          <p:cNvPicPr/>
          <p:nvPr/>
        </p:nvPicPr>
        <p:blipFill>
          <a:blip r:embed="rId5"/>
          <a:stretch/>
        </p:blipFill>
        <p:spPr>
          <a:xfrm>
            <a:off x="4029120" y="3133800"/>
            <a:ext cx="1407960" cy="1139760"/>
          </a:xfrm>
          <a:prstGeom prst="rect">
            <a:avLst/>
          </a:prstGeom>
          <a:ln w="0">
            <a:noFill/>
          </a:ln>
        </p:spPr>
      </p:pic>
      <p:pic>
        <p:nvPicPr>
          <p:cNvPr id="194" name="Rectangle 10" descr=""/>
          <p:cNvPicPr/>
          <p:nvPr/>
        </p:nvPicPr>
        <p:blipFill>
          <a:blip r:embed="rId6"/>
          <a:stretch/>
        </p:blipFill>
        <p:spPr>
          <a:xfrm>
            <a:off x="6997680" y="3164040"/>
            <a:ext cx="1451160" cy="1139760"/>
          </a:xfrm>
          <a:prstGeom prst="rect">
            <a:avLst/>
          </a:prstGeom>
          <a:ln w="0">
            <a:noFill/>
          </a:ln>
        </p:spPr>
      </p:pic>
      <p:sp>
        <p:nvSpPr>
          <p:cNvPr id="195" name="Oval 13"/>
          <p:cNvSpPr/>
          <p:nvPr/>
        </p:nvSpPr>
        <p:spPr>
          <a:xfrm>
            <a:off x="7974000" y="2338560"/>
            <a:ext cx="704880" cy="7045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ounding Calculated Answe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66320" y="1364760"/>
            <a:ext cx="897732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ffffff"/>
                </a:solidFill>
                <a:uFillTx/>
                <a:latin typeface="Arial"/>
              </a:rPr>
              <a:t>Rounding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For Mr. Rita’s class, you will round all measurements and calculations to no more than 2 decimal places.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6800" y="264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ounding Practi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00800" y="1752480"/>
            <a:ext cx="29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. 3.24 m x 7.2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518040" y="1143000"/>
            <a:ext cx="21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Comic Sans MS"/>
              </a:rPr>
              <a:t>Calc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957840" y="1143000"/>
            <a:ext cx="49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Comic Sans MS"/>
              </a:rPr>
              <a:t>Rounded Numeric Answ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92520" y="2435400"/>
            <a:ext cx="34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. 1.52 g ÷ 23.7 c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36800" y="3121200"/>
            <a:ext cx="35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. 0.02 cm x 2.37 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80280" y="380988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. 710 m ÷ 3.0 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180360" y="451008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. 1818.2 lb x 3.23 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145440" y="5195880"/>
            <a:ext cx="339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. 1.030 g x 2.87 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Oval 11"/>
          <p:cNvSpPr/>
          <p:nvPr/>
        </p:nvSpPr>
        <p:spPr>
          <a:xfrm>
            <a:off x="8020080" y="404640"/>
            <a:ext cx="70488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is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SI units of measurement and common SI prefix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istinguis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etween the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as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eigh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f an objec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ver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etween the Celsius and Kelvin temperature scal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14436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nternational System of Units (SI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01240" y="858960"/>
            <a:ext cx="8753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ements depend upon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unit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at serve as reference standa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tandards of measurement used in science are those of th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Metric Syste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(SI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145584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tric system is now revised and named as the International System of Units (SI), as of 196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has simplicity, and is based on 10 or multiples of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7 base unit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only five commonly used in chemistry: meter, kilogram, kelvin, second, and mo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60320" y="890640"/>
            <a:ext cx="5683320" cy="23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Chapter 1</a:t>
            </a:r>
            <a:br>
              <a:rPr sz="4800"/>
            </a:b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i="1" lang="en-US" sz="4800" spc="-1" strike="noStrike">
                <a:solidFill>
                  <a:srgbClr val="ffcc00"/>
                </a:solidFill>
                <a:latin typeface="Arial Black"/>
              </a:rPr>
              <a:t>Scientific Measurement</a:t>
            </a: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”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12920" y="3922560"/>
            <a:ext cx="8449920" cy="26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rtesy of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rles Page High Sch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emis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ephen L. Cott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www.cottonchemistry.bizland.com/.../Chapter%203%20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Scientific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%20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easurement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.ppt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028" descr="scale2"/>
          <p:cNvPicPr/>
          <p:nvPr/>
        </p:nvPicPr>
        <p:blipFill>
          <a:blip r:embed="rId1"/>
          <a:stretch/>
        </p:blipFill>
        <p:spPr>
          <a:xfrm>
            <a:off x="920880" y="314280"/>
            <a:ext cx="2350800" cy="342756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82760" y="-19080"/>
            <a:ext cx="8269200" cy="130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Fundamental SI Units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(Le Système International, SI)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19" name="Object 3"/>
          <p:cNvGraphicFramePr/>
          <p:nvPr/>
        </p:nvGraphicFramePr>
        <p:xfrm>
          <a:off x="690480" y="1460520"/>
          <a:ext cx="7774200" cy="51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460520"/>
                    <a:ext cx="7774200" cy="5180040"/>
                  </a:xfrm>
                  <a:prstGeom prst="rect">
                    <a:avLst/>
                  </a:prstGeom>
                  <a:ln w="255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1" name="Flowchart: Document 3"/>
          <p:cNvSpPr/>
          <p:nvPr/>
        </p:nvSpPr>
        <p:spPr>
          <a:xfrm>
            <a:off x="7824960" y="196380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1552680" y="1393920"/>
            <a:ext cx="5994360" cy="494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37760" y="0"/>
            <a:ext cx="83962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SI Prefixes – Page 17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Common to Chemistr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676520" y="1498680"/>
          <a:ext cx="5740200" cy="4800600"/>
        </p:xfrm>
        <a:graphic>
          <a:graphicData uri="http://schemas.openxmlformats.org/drawingml/2006/table">
            <a:tbl>
              <a:tblPr/>
              <a:tblGrid>
                <a:gridCol w="1434960"/>
                <a:gridCol w="1434960"/>
                <a:gridCol w="1435320"/>
                <a:gridCol w="1434960"/>
              </a:tblGrid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Prefix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Abbrev.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eaning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Expon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eg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,000,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Kil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K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Hect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H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ek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k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Base Uni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eci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Centi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illi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icr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,000,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Flowchart: Document 3"/>
          <p:cNvSpPr/>
          <p:nvPr/>
        </p:nvSpPr>
        <p:spPr>
          <a:xfrm>
            <a:off x="7635960" y="139716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533520"/>
            <a:ext cx="914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1600200" y="1614600"/>
            <a:ext cx="75423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3125880" y="2865600"/>
            <a:ext cx="2854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124080" y="3505320"/>
            <a:ext cx="3468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1355760" y="4540320"/>
            <a:ext cx="187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1204920" y="5183280"/>
            <a:ext cx="1046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2271600" y="5183280"/>
            <a:ext cx="59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3871800" y="4540320"/>
            <a:ext cx="5056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4014720" y="5183280"/>
            <a:ext cx="1046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7148520" y="5183280"/>
            <a:ext cx="593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9052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Nature of Measure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332560" cy="429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rt 1 – 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umb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rt 2 –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ni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ll measurements must have a unit! (no “naked” numb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14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20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ra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6.63 x 10</a:t>
            </a:r>
            <a:r>
              <a:rPr b="1" lang="en-US" sz="3600" spc="-1" strike="noStrike" baseline="30000">
                <a:solidFill>
                  <a:srgbClr val="ffcc00"/>
                </a:solidFill>
                <a:latin typeface="Arial"/>
              </a:rPr>
              <a:t>-34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Joule seco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184320" y="1295280"/>
            <a:ext cx="87516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Measurement - quantitative observation  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sisting of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2 part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Flowchart: Document 14"/>
          <p:cNvSpPr/>
          <p:nvPr/>
        </p:nvSpPr>
        <p:spPr>
          <a:xfrm>
            <a:off x="7554960" y="1903320"/>
            <a:ext cx="1319040" cy="6606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Length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SI, the basic unit of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engt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eter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(m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ngth is the distance between two objects – measured with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ru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 make use of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refix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for units larger or smal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Flowchart: Document 3"/>
          <p:cNvSpPr/>
          <p:nvPr/>
        </p:nvSpPr>
        <p:spPr>
          <a:xfrm>
            <a:off x="7464600" y="43488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Volum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61640" y="739440"/>
            <a:ext cx="88074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pace occupied by any sample of matt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lculated for a solid by multiplying 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length x width x heigh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; thus derived from units of lengt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 unit =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ubic meter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(m</a:t>
            </a:r>
            <a:r>
              <a:rPr b="1" lang="en-US" sz="4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day unit = Liter (L)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Note: 1mL = 1cm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Flowchart: Document 3"/>
          <p:cNvSpPr/>
          <p:nvPr/>
        </p:nvSpPr>
        <p:spPr>
          <a:xfrm>
            <a:off x="7510320" y="1390680"/>
            <a:ext cx="13194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Devices for Measuring Liquid Volum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raduated cylind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ip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ur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rlenmeyer Flas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yrin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Mas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Arial"/>
              </a:rPr>
              <a:t>Mas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s a measure of the quantity of matter pres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Weigh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is a force that measures the pull by gravity- it changes with 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ss is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sta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, regardless of 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Flowchart: Document 5"/>
          <p:cNvSpPr/>
          <p:nvPr/>
        </p:nvSpPr>
        <p:spPr>
          <a:xfrm>
            <a:off x="7585200" y="67464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1128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rue or False?</a:t>
            </a:r>
            <a:br>
              <a:rPr sz="4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f false, re-write so it’s tru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4760" y="19810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The speed limit on Evergreen Rd. is 3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A beaker measures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1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equal to 1 m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The base unit for mass is the 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 Our mass changes when we go to the mo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. The metric system is based on 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3"/>
          <p:cNvSpPr/>
          <p:nvPr/>
        </p:nvSpPr>
        <p:spPr>
          <a:xfrm>
            <a:off x="8020080" y="404640"/>
            <a:ext cx="70488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orking with Mas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80720" y="1209240"/>
            <a:ext cx="87534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SI unit of mass is the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kilogram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(kg),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even though a more convenient everyday unit is the gra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Gram is to small to expres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easuring instrument is the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balance sca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Flowchart: Document 4"/>
          <p:cNvSpPr/>
          <p:nvPr/>
        </p:nvSpPr>
        <p:spPr>
          <a:xfrm>
            <a:off x="7615080" y="509760"/>
            <a:ext cx="131940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Kg to g comparis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mall paperclip has a mass of abo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6 week old puppy has a mass of about 1 kil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5" descr="http://t2.gstatic.com/images?q=tbn:_mGSRRMnWmIkYM:http://barista.media2.org/wp-content/paper%2520clip%2520distortion.jpg"/>
          <p:cNvPicPr/>
          <p:nvPr/>
        </p:nvPicPr>
        <p:blipFill>
          <a:blip r:embed="rId3"/>
          <a:stretch/>
        </p:blipFill>
        <p:spPr>
          <a:xfrm>
            <a:off x="3421080" y="2662200"/>
            <a:ext cx="2274840" cy="1515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http://t2.gstatic.com/images?q=tbn:_F-mI3RRqyCEDM:http://image-photo.weather.com/A5/77/full/A577B619-F815-4BEE-A2F3-BA82000CB9DF.jpg"/>
          <p:cNvPicPr/>
          <p:nvPr/>
        </p:nvPicPr>
        <p:blipFill>
          <a:blip r:embed="rId4"/>
          <a:stretch/>
        </p:blipFill>
        <p:spPr>
          <a:xfrm>
            <a:off x="5745240" y="4968720"/>
            <a:ext cx="2259000" cy="1690920"/>
          </a:xfrm>
          <a:prstGeom prst="rect">
            <a:avLst/>
          </a:prstGeom>
          <a:ln w="0">
            <a:noFill/>
          </a:ln>
        </p:spPr>
      </p:pic>
      <p:sp>
        <p:nvSpPr>
          <p:cNvPr id="261" name="Cloud Callout 5"/>
          <p:cNvSpPr/>
          <p:nvPr/>
        </p:nvSpPr>
        <p:spPr>
          <a:xfrm rot="19391400">
            <a:off x="4237200" y="5487480"/>
            <a:ext cx="2286000" cy="762120"/>
          </a:xfrm>
          <a:prstGeom prst="cloudCallout">
            <a:avLst>
              <a:gd name="adj1" fmla="val -17500"/>
              <a:gd name="adj2" fmla="val 36638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ff"/>
                </a:solidFill>
                <a:latin typeface="Bradley Hand ITC"/>
              </a:rPr>
              <a:t>AW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s and Their Uncertaint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ver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measurements to scientific notatio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00200" y="221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Temperatur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13840" y="1012320"/>
            <a:ext cx="876780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mperature is a measure of how hot or cold an object i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at moves from the object at the higher temperature to the object at the lower temperatu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 use two units of temperatur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elsius – named after Anders Celsi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elvin – named after Lord Kelv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6039000" y="1568520"/>
            <a:ext cx="258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Measured with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ermome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00200" y="221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Temperatur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13840" y="1012320"/>
            <a:ext cx="87678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ffff00"/>
                </a:solidFill>
                <a:uFillTx/>
                <a:latin typeface="Arial"/>
              </a:rPr>
              <a:t>Celsius scale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defined by two readily determined temperatures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reezing point of water = 0 </a:t>
            </a:r>
            <a:r>
              <a:rPr b="1" lang="en-US" sz="39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Boiling point of water = 100 </a:t>
            </a:r>
            <a:r>
              <a:rPr b="1" lang="en-US" sz="39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ffff00"/>
                </a:solidFill>
                <a:uFillTx/>
                <a:latin typeface="Arial"/>
              </a:rPr>
              <a:t>Kelvin scale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does not use the degree sign, but is just represented by K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bsolute zero = 0 K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hus no negativ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75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formula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to convert:  K = </a:t>
            </a:r>
            <a:r>
              <a:rPr b="1" lang="en-US" sz="39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 + 273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Flowchart: Document 4"/>
          <p:cNvSpPr/>
          <p:nvPr/>
        </p:nvSpPr>
        <p:spPr>
          <a:xfrm>
            <a:off x="7615080" y="1679400"/>
            <a:ext cx="1319400" cy="65916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Object 4"/>
          <p:cNvGraphicFramePr/>
          <p:nvPr/>
        </p:nvGraphicFramePr>
        <p:xfrm>
          <a:off x="0" y="0"/>
          <a:ext cx="9318600" cy="704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18600" cy="704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5"/>
          <p:cNvSpPr/>
          <p:nvPr/>
        </p:nvSpPr>
        <p:spPr>
          <a:xfrm>
            <a:off x="3990960" y="479520"/>
            <a:ext cx="19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Page 7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Oval 3"/>
          <p:cNvSpPr/>
          <p:nvPr/>
        </p:nvSpPr>
        <p:spPr>
          <a:xfrm>
            <a:off x="8080200" y="600120"/>
            <a:ext cx="70344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00200" y="221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Energ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13840" y="1012680"/>
            <a:ext cx="87678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ergy is the capacity to do work, or to produce hea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ergy can also be measured, and two common units ar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ffffff"/>
              </a:buClr>
              <a:buSzPct val="9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Joul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J) = the SI unit of energy, named after James Prescott Jou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ffffff"/>
              </a:buClr>
              <a:buSzPct val="9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alori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cal) = the heat needed to raise 1 gram of water by 1 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struc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conversion factors from equivalent measurement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Apply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e techniques of dimensional analysis to a variety of conversion problem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Solve problem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y breaking the solution into step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ver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complex units, using dimensional analysi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71400" y="1947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version facto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240" y="945720"/>
            <a:ext cx="8915400" cy="528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 “ratio” of equivalent measureme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art with two things that are the same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ne meter is one hundred centimete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rite it as an equ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1 m = 100 c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e can divide on each side of the equation to come up with two ways of writing the number “1”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Flowchart: Document 4"/>
          <p:cNvSpPr/>
          <p:nvPr/>
        </p:nvSpPr>
        <p:spPr>
          <a:xfrm>
            <a:off x="7585200" y="344520"/>
            <a:ext cx="131904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Group 3"/>
          <p:cNvGrpSpPr/>
          <p:nvPr/>
        </p:nvGrpSpPr>
        <p:grpSpPr>
          <a:xfrm>
            <a:off x="2574720" y="1859040"/>
            <a:ext cx="4361760" cy="702000"/>
            <a:chOff x="2574720" y="1859040"/>
            <a:chExt cx="4361760" cy="702000"/>
          </a:xfrm>
        </p:grpSpPr>
        <p:sp>
          <p:nvSpPr>
            <p:cNvPr id="287" name="Rectangle 4"/>
            <p:cNvSpPr/>
            <p:nvPr/>
          </p:nvSpPr>
          <p:spPr>
            <a:xfrm>
              <a:off x="5241240" y="185904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Rectangle 5"/>
            <p:cNvSpPr/>
            <p:nvPr/>
          </p:nvSpPr>
          <p:spPr>
            <a:xfrm>
              <a:off x="2574720" y="185904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" name="Rectangle 6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Group 7"/>
          <p:cNvGrpSpPr/>
          <p:nvPr/>
        </p:nvGrpSpPr>
        <p:grpSpPr>
          <a:xfrm>
            <a:off x="1905120" y="2438280"/>
            <a:ext cx="5486400" cy="0"/>
            <a:chOff x="1905120" y="2438280"/>
            <a:chExt cx="5486400" cy="0"/>
          </a:xfrm>
        </p:grpSpPr>
        <p:sp>
          <p:nvSpPr>
            <p:cNvPr id="291" name="Line 8"/>
            <p:cNvSpPr/>
            <p:nvPr/>
          </p:nvSpPr>
          <p:spPr>
            <a:xfrm>
              <a:off x="1905120" y="2438280"/>
              <a:ext cx="2438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Line 9"/>
            <p:cNvSpPr/>
            <p:nvPr/>
          </p:nvSpPr>
          <p:spPr>
            <a:xfrm>
              <a:off x="4952880" y="2438280"/>
              <a:ext cx="243864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3" name="Group 10"/>
          <p:cNvGrpSpPr/>
          <p:nvPr/>
        </p:nvGrpSpPr>
        <p:grpSpPr>
          <a:xfrm>
            <a:off x="2193120" y="2392200"/>
            <a:ext cx="4743360" cy="702000"/>
            <a:chOff x="2193120" y="2392200"/>
            <a:chExt cx="4743360" cy="702000"/>
          </a:xfrm>
        </p:grpSpPr>
        <p:sp>
          <p:nvSpPr>
            <p:cNvPr id="294" name="Rectangle 11"/>
            <p:cNvSpPr/>
            <p:nvPr/>
          </p:nvSpPr>
          <p:spPr>
            <a:xfrm>
              <a:off x="2193120" y="239220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Rectangle 12"/>
            <p:cNvSpPr/>
            <p:nvPr/>
          </p:nvSpPr>
          <p:spPr>
            <a:xfrm>
              <a:off x="5241240" y="239220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6" name="Line 13"/>
          <p:cNvSpPr/>
          <p:nvPr/>
        </p:nvSpPr>
        <p:spPr>
          <a:xfrm>
            <a:off x="5029200" y="1905120"/>
            <a:ext cx="2133720" cy="53316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Line 14"/>
          <p:cNvSpPr/>
          <p:nvPr/>
        </p:nvSpPr>
        <p:spPr>
          <a:xfrm>
            <a:off x="5029200" y="2438280"/>
            <a:ext cx="2133720" cy="53352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s and Their Uncertaint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istinguis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mong accuracy, precision, and error of a measureme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5317920" y="186516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2574720" y="185904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Line 6"/>
          <p:cNvSpPr/>
          <p:nvPr/>
        </p:nvSpPr>
        <p:spPr>
          <a:xfrm>
            <a:off x="1905120" y="24382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2193120" y="239220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5317920" y="186516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2574720" y="185904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2193120" y="239220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Group 7"/>
          <p:cNvGrpSpPr/>
          <p:nvPr/>
        </p:nvGrpSpPr>
        <p:grpSpPr>
          <a:xfrm>
            <a:off x="2422440" y="3611520"/>
            <a:ext cx="4361760" cy="702000"/>
            <a:chOff x="2422440" y="3611520"/>
            <a:chExt cx="4361760" cy="702000"/>
          </a:xfrm>
        </p:grpSpPr>
        <p:sp>
          <p:nvSpPr>
            <p:cNvPr id="310" name="Rectangle 8"/>
            <p:cNvSpPr/>
            <p:nvPr/>
          </p:nvSpPr>
          <p:spPr>
            <a:xfrm>
              <a:off x="5088960" y="361152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Rectangle 9"/>
            <p:cNvSpPr/>
            <p:nvPr/>
          </p:nvSpPr>
          <p:spPr>
            <a:xfrm>
              <a:off x="4174560" y="3611520"/>
              <a:ext cx="4716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Rectangle 10"/>
            <p:cNvSpPr/>
            <p:nvPr/>
          </p:nvSpPr>
          <p:spPr>
            <a:xfrm>
              <a:off x="2422440" y="361152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Line 11"/>
          <p:cNvSpPr/>
          <p:nvPr/>
        </p:nvSpPr>
        <p:spPr>
          <a:xfrm>
            <a:off x="1905120" y="24382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4" name="Group 12"/>
          <p:cNvGrpSpPr/>
          <p:nvPr/>
        </p:nvGrpSpPr>
        <p:grpSpPr>
          <a:xfrm>
            <a:off x="1828800" y="4267080"/>
            <a:ext cx="5257800" cy="0"/>
            <a:chOff x="1828800" y="4267080"/>
            <a:chExt cx="5257800" cy="0"/>
          </a:xfrm>
        </p:grpSpPr>
        <p:sp>
          <p:nvSpPr>
            <p:cNvPr id="315" name="Line 13"/>
            <p:cNvSpPr/>
            <p:nvPr/>
          </p:nvSpPr>
          <p:spPr>
            <a:xfrm>
              <a:off x="1828800" y="4267080"/>
              <a:ext cx="2438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Line 14"/>
            <p:cNvSpPr/>
            <p:nvPr/>
          </p:nvSpPr>
          <p:spPr>
            <a:xfrm>
              <a:off x="4648320" y="4267080"/>
              <a:ext cx="2438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Group 15"/>
          <p:cNvGrpSpPr/>
          <p:nvPr/>
        </p:nvGrpSpPr>
        <p:grpSpPr>
          <a:xfrm>
            <a:off x="2422440" y="4297320"/>
            <a:ext cx="3780360" cy="702000"/>
            <a:chOff x="2422440" y="4297320"/>
            <a:chExt cx="3780360" cy="702000"/>
          </a:xfrm>
        </p:grpSpPr>
        <p:sp>
          <p:nvSpPr>
            <p:cNvPr id="318" name="Rectangle 16"/>
            <p:cNvSpPr/>
            <p:nvPr/>
          </p:nvSpPr>
          <p:spPr>
            <a:xfrm>
              <a:off x="2422440" y="429732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Rectangle 17"/>
            <p:cNvSpPr/>
            <p:nvPr/>
          </p:nvSpPr>
          <p:spPr>
            <a:xfrm>
              <a:off x="5241960" y="429732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0" name="Line 18"/>
          <p:cNvSpPr/>
          <p:nvPr/>
        </p:nvSpPr>
        <p:spPr>
          <a:xfrm>
            <a:off x="2286000" y="3733920"/>
            <a:ext cx="1219320" cy="38088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Line 19"/>
          <p:cNvSpPr/>
          <p:nvPr/>
        </p:nvSpPr>
        <p:spPr>
          <a:xfrm>
            <a:off x="2362320" y="4495680"/>
            <a:ext cx="1218960" cy="38124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5317920" y="186516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2574720" y="185904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2193120" y="239220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5088960" y="361152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4174560" y="361152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Line 9"/>
          <p:cNvSpPr/>
          <p:nvPr/>
        </p:nvSpPr>
        <p:spPr>
          <a:xfrm>
            <a:off x="1905120" y="24382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Line 10"/>
          <p:cNvSpPr/>
          <p:nvPr/>
        </p:nvSpPr>
        <p:spPr>
          <a:xfrm>
            <a:off x="4648320" y="42670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5241960" y="429732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3260520" y="361800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677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facto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13840" y="958320"/>
            <a:ext cx="8759880" cy="529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 unique way of writing the number 1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quivalence statements always have this relationship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b3e692"/>
                </a:solidFill>
                <a:latin typeface="Arial"/>
              </a:rPr>
              <a:t>big #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mall unit = </a:t>
            </a: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small #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big uni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Arial"/>
              </a:rPr>
              <a:t>           </a:t>
            </a:r>
            <a:r>
              <a:rPr b="0" lang="en-US" sz="3800" spc="-1" strike="noStrike">
                <a:solidFill>
                  <a:srgbClr val="b3e692"/>
                </a:solidFill>
                <a:latin typeface="Arial"/>
              </a:rPr>
              <a:t>1000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mm = </a:t>
            </a: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ich below are good conversion factor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 inch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mplete the con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54 cm                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fa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 kilomet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e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00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m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000 m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li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.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 class peri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30 day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5"/>
          <p:cNvSpPr/>
          <p:nvPr/>
        </p:nvSpPr>
        <p:spPr>
          <a:xfrm>
            <a:off x="7974000" y="1347840"/>
            <a:ext cx="704880" cy="703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9"/>
          <p:cNvSpPr/>
          <p:nvPr/>
        </p:nvSpPr>
        <p:spPr>
          <a:xfrm>
            <a:off x="5108400" y="3497400"/>
            <a:ext cx="1640160" cy="46512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4811760" y="5173560"/>
            <a:ext cx="2373120" cy="48744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61800" y="174600"/>
            <a:ext cx="8445600" cy="21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actice by writing the </a:t>
            </a: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two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ossible conversion factors for the following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. Between kilograms and gra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. between feet and in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. using 1.0 gal. = 3.8 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5"/>
          <p:cNvSpPr/>
          <p:nvPr/>
        </p:nvSpPr>
        <p:spPr>
          <a:xfrm>
            <a:off x="7989840" y="182556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onversion factors; what are they good for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440" y="1671480"/>
            <a:ext cx="7932600" cy="449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 multiply by the number “one” creatively to change the un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: 13 inches is how many yar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know that 36 inches = 1 y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yard     = 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36 i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yard      x     13 inches      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6 i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1147680" y="4475160"/>
            <a:ext cx="1752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1117440" y="5716440"/>
            <a:ext cx="1752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Flowchart: Document 4"/>
          <p:cNvSpPr/>
          <p:nvPr/>
        </p:nvSpPr>
        <p:spPr>
          <a:xfrm>
            <a:off x="7542360" y="1114560"/>
            <a:ext cx="131904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685800" y="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ere’s how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304920" y="1143000"/>
            <a:ext cx="8839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Q: 13 inches equals how many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Times New Roman"/>
              </a:rPr>
              <a:t>yards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We know that 1 yard = 36 inches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ince we need an answer in yards, that goes on the top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Now multiply by 13 inches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Line 6"/>
          <p:cNvSpPr/>
          <p:nvPr/>
        </p:nvSpPr>
        <p:spPr>
          <a:xfrm>
            <a:off x="3849840" y="4699080"/>
            <a:ext cx="1218960" cy="45720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Line 7"/>
          <p:cNvSpPr/>
          <p:nvPr/>
        </p:nvSpPr>
        <p:spPr>
          <a:xfrm>
            <a:off x="1270080" y="5259240"/>
            <a:ext cx="1218960" cy="45720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Oval Callout 7"/>
          <p:cNvSpPr/>
          <p:nvPr/>
        </p:nvSpPr>
        <p:spPr>
          <a:xfrm>
            <a:off x="5889600" y="2919240"/>
            <a:ext cx="2424240" cy="1322640"/>
          </a:xfrm>
          <a:prstGeom prst="wedgeEllipseCallout">
            <a:avLst>
              <a:gd name="adj1" fmla="val -92574"/>
              <a:gd name="adj2" fmla="val 108949"/>
            </a:avLst>
          </a:prstGeom>
          <a:solidFill>
            <a:srgbClr val="fabe00">
              <a:alpha val="7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Units cancel ou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just lik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numbers do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Group 9"/>
          <p:cNvGrpSpPr/>
          <p:nvPr/>
        </p:nvGrpSpPr>
        <p:grpSpPr>
          <a:xfrm>
            <a:off x="644400" y="4541760"/>
            <a:ext cx="2248200" cy="1191240"/>
            <a:chOff x="644400" y="4541760"/>
            <a:chExt cx="2248200" cy="1191240"/>
          </a:xfrm>
        </p:grpSpPr>
        <p:sp>
          <p:nvSpPr>
            <p:cNvPr id="354" name="Line 5"/>
            <p:cNvSpPr/>
            <p:nvPr/>
          </p:nvSpPr>
          <p:spPr>
            <a:xfrm>
              <a:off x="655560" y="5121000"/>
              <a:ext cx="1752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TextBox 8"/>
            <p:cNvSpPr/>
            <p:nvPr/>
          </p:nvSpPr>
          <p:spPr>
            <a:xfrm>
              <a:off x="644400" y="4541760"/>
              <a:ext cx="2248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 yard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6 inche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TextBox 11"/>
          <p:cNvSpPr/>
          <p:nvPr/>
        </p:nvSpPr>
        <p:spPr>
          <a:xfrm>
            <a:off x="2622600" y="4557600"/>
            <a:ext cx="37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   13 inches  =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Box 12"/>
          <p:cNvSpPr/>
          <p:nvPr/>
        </p:nvSpPr>
        <p:spPr>
          <a:xfrm>
            <a:off x="5921280" y="4557600"/>
            <a:ext cx="21877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0.36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Flowchart: Document 4"/>
          <p:cNvSpPr/>
          <p:nvPr/>
        </p:nvSpPr>
        <p:spPr>
          <a:xfrm>
            <a:off x="7585200" y="344520"/>
            <a:ext cx="131904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Curved Up Arrow 14"/>
          <p:cNvSpPr/>
          <p:nvPr/>
        </p:nvSpPr>
        <p:spPr>
          <a:xfrm>
            <a:off x="1843200" y="5181480"/>
            <a:ext cx="5718240" cy="1044720"/>
          </a:xfrm>
          <a:custGeom>
            <a:avLst/>
            <a:gdLst>
              <a:gd name="textAreaLeft" fmla="*/ 1331640 w 5718240"/>
              <a:gd name="textAreaRight" fmla="*/ 4255920 w 5718240"/>
              <a:gd name="textAreaTop" fmla="*/ 139680 h 1044720"/>
              <a:gd name="textAreaBottom" fmla="*/ 905040 h 10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060" hR="21600" stAng="10800000" swAng="-5400000"/>
                <a:lnTo>
                  <a:pt x="11046" y="21600"/>
                </a:lnTo>
                <a:arcTo wR="10060" hR="21600" stAng="5400000" swAng="-3659805"/>
                <a:lnTo>
                  <a:pt x="21281" y="5400"/>
                </a:lnTo>
                <a:lnTo>
                  <a:pt x="20613" y="0"/>
                </a:lnTo>
                <a:lnTo>
                  <a:pt x="19307" y="5400"/>
                </a:lnTo>
                <a:lnTo>
                  <a:pt x="19801" y="5400"/>
                </a:lnTo>
                <a:arcTo wR="10060" hR="21600" stAng="1740195" swAng="3581261"/>
                <a:lnTo>
                  <a:pt x="10553" y="21574"/>
                </a:lnTo>
                <a:arcTo wR="10060" hR="21600" stAng="5478544" swAng="5321456"/>
                <a:close/>
              </a:path>
              <a:path fill="darkenLess" w="21600" h="21600">
                <a:moveTo>
                  <a:pt x="0" y="0"/>
                </a:moveTo>
                <a:arcTo wR="10060" hR="21600" stAng="10800000" swAng="-5400000"/>
                <a:lnTo>
                  <a:pt x="11046" y="21600"/>
                </a:lnTo>
                <a:arcTo wR="10060" hR="21600" stAng="5400000" swAng="78544"/>
                <a:lnTo>
                  <a:pt x="10553" y="21574"/>
                </a:lnTo>
                <a:arcTo wR="10060" hR="21600" stAng="5478544" swAng="5321456"/>
                <a:close/>
              </a:path>
            </a:pathLst>
          </a:custGeom>
          <a:solidFill>
            <a:srgbClr val="9ce157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Oval 15"/>
          <p:cNvSpPr/>
          <p:nvPr/>
        </p:nvSpPr>
        <p:spPr>
          <a:xfrm>
            <a:off x="3948120" y="5529240"/>
            <a:ext cx="1843200" cy="113364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Remaining un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goes with th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6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Let’s practice!</a:t>
            </a:r>
            <a:br>
              <a:rPr sz="44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You must show all work like shown below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meters are in 100 yar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x         cm  x                inches   x          yard  =              cm               inches               y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How many centimeters are in a foo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How many minutes are in a da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One lap around the track is 400 meters.  How many miles is this equal t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not ¼ of a mile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Oval 5"/>
          <p:cNvSpPr/>
          <p:nvPr/>
        </p:nvSpPr>
        <p:spPr>
          <a:xfrm>
            <a:off x="8005680" y="40320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289080" y="2606760"/>
            <a:ext cx="64116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304920" y="300204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2239920" y="260676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2255760" y="300204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8"/>
          <p:cNvSpPr/>
          <p:nvPr/>
        </p:nvSpPr>
        <p:spPr>
          <a:xfrm>
            <a:off x="4359240" y="259092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4359240" y="2987640"/>
            <a:ext cx="639720" cy="33516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6384960" y="2606760"/>
            <a:ext cx="64116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Straight Connector 15"/>
          <p:cNvSpPr/>
          <p:nvPr/>
        </p:nvSpPr>
        <p:spPr>
          <a:xfrm flipH="1">
            <a:off x="198000" y="2971800"/>
            <a:ext cx="163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Straight Connector 16"/>
          <p:cNvSpPr/>
          <p:nvPr/>
        </p:nvSpPr>
        <p:spPr>
          <a:xfrm flipH="1">
            <a:off x="2163240" y="2971800"/>
            <a:ext cx="163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Straight Connector 17"/>
          <p:cNvSpPr/>
          <p:nvPr/>
        </p:nvSpPr>
        <p:spPr>
          <a:xfrm flipH="1">
            <a:off x="4296960" y="2955960"/>
            <a:ext cx="163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ore on unit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69960" y="1401480"/>
            <a:ext cx="77724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that units can be canceled just like numb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an also be multiplied like nu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 x 12 = 1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1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m x 12m = 144 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5 cm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sec        s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Flowchart: Document 4"/>
          <p:cNvSpPr/>
          <p:nvPr/>
        </p:nvSpPr>
        <p:spPr>
          <a:xfrm>
            <a:off x="7615080" y="603360"/>
            <a:ext cx="131940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7840" y="892080"/>
            <a:ext cx="8966160" cy="563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make measurements every day: buying products, sports activities, and coo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Qualita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asurements ar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or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uch as heavy or 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Quantita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asurements involv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umb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quantities), and depend 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Scientific N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efficient raised to power of 10   (ex. 1.3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4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34000.0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cimal place moves 4 to the r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4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0.00034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cimal place moves 4 to the lef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:  Textbook pages 14 &amp; 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Flowchart: Document 3"/>
          <p:cNvSpPr/>
          <p:nvPr/>
        </p:nvSpPr>
        <p:spPr>
          <a:xfrm>
            <a:off x="7045200" y="299880"/>
            <a:ext cx="13194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o back to question  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the proper unit for each of the numeric answers calculated th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Oval 5"/>
          <p:cNvSpPr/>
          <p:nvPr/>
        </p:nvSpPr>
        <p:spPr>
          <a:xfrm>
            <a:off x="7639200" y="218592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Oval 5"/>
          <p:cNvSpPr/>
          <p:nvPr/>
        </p:nvSpPr>
        <p:spPr>
          <a:xfrm>
            <a:off x="7761240" y="79848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at’s the end!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assignment is due by Thursday (9/17/09)  If you did not complete it in class, it is home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 in your completed paper to the completed assignment bask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00200" y="1904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curacy, Precision, and Erro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7840" y="1574640"/>
            <a:ext cx="874872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necessary to make good, reliable measurements in the la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</a:rPr>
              <a:t>Accurac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how close a measurement is to the true val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low level of uncertainty in measuremen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</a:rPr>
              <a:t>Precis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how close the measurements are to each other (reproducibl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Flowchart: Document 3"/>
          <p:cNvSpPr/>
          <p:nvPr/>
        </p:nvSpPr>
        <p:spPr>
          <a:xfrm>
            <a:off x="7599240" y="914400"/>
            <a:ext cx="13194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86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ecision and Accurac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371600" y="2284560"/>
            <a:ext cx="73152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371600" y="4083120"/>
            <a:ext cx="777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6" descr="neither"/>
          <p:cNvPicPr/>
          <p:nvPr/>
        </p:nvPicPr>
        <p:blipFill>
          <a:blip r:embed="rId1"/>
          <a:stretch/>
        </p:blipFill>
        <p:spPr>
          <a:xfrm>
            <a:off x="255600" y="2303640"/>
            <a:ext cx="2125800" cy="18064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169" name="Picture 7" descr="precise"/>
          <p:cNvPicPr/>
          <p:nvPr/>
        </p:nvPicPr>
        <p:blipFill>
          <a:blip r:embed="rId2"/>
          <a:stretch/>
        </p:blipFill>
        <p:spPr>
          <a:xfrm>
            <a:off x="3354480" y="2278080"/>
            <a:ext cx="2206440" cy="17938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170" name="Picture 8" descr="accurate"/>
          <p:cNvPicPr/>
          <p:nvPr/>
        </p:nvPicPr>
        <p:blipFill>
          <a:blip r:embed="rId3"/>
          <a:stretch/>
        </p:blipFill>
        <p:spPr>
          <a:xfrm>
            <a:off x="6732720" y="2330280"/>
            <a:ext cx="2114280" cy="181800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171" name="Text Box 9"/>
          <p:cNvSpPr/>
          <p:nvPr/>
        </p:nvSpPr>
        <p:spPr>
          <a:xfrm>
            <a:off x="254160" y="4340160"/>
            <a:ext cx="222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ither accurate nor prec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341520" y="4270320"/>
            <a:ext cx="22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se, but not accu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6702480" y="4346640"/>
            <a:ext cx="214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se AND accu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How often is this clock accurat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5" name="Picture 2" descr="http://t3.gstatic.com/images?q=tbn:1G5DM8RST-od5M:http://1.bp.blogspot.com/_P4z-yK0VM_Q/ShMECFlfF1I/AAAAAAAAAGo/pB_ew7gTUN0/s320/broken%2Bclock.jpg"/>
          <p:cNvPicPr/>
          <p:nvPr/>
        </p:nvPicPr>
        <p:blipFill>
          <a:blip r:embed="rId1"/>
          <a:stretch/>
        </p:blipFill>
        <p:spPr>
          <a:xfrm>
            <a:off x="3027240" y="2136600"/>
            <a:ext cx="3025800" cy="3880080"/>
          </a:xfrm>
          <a:prstGeom prst="rect">
            <a:avLst/>
          </a:prstGeom>
          <a:ln w="0">
            <a:noFill/>
          </a:ln>
        </p:spPr>
      </p:pic>
      <p:sp>
        <p:nvSpPr>
          <p:cNvPr id="176" name="Oval 5"/>
          <p:cNvSpPr/>
          <p:nvPr/>
        </p:nvSpPr>
        <p:spPr>
          <a:xfrm>
            <a:off x="7959600" y="127476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curacy, Precision, and Erro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9000" y="1981080"/>
            <a:ext cx="8650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cc00"/>
                </a:solidFill>
                <a:uFillTx/>
                <a:latin typeface="Arial"/>
              </a:rPr>
              <a:t>Accepted value</a:t>
            </a: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= the correct value based on reliable referen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cc00"/>
                </a:solidFill>
                <a:uFillTx/>
                <a:latin typeface="Arial"/>
              </a:rPr>
              <a:t>Experimental value</a:t>
            </a: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= the value measured in the la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Flowchart: Document 3"/>
          <p:cNvSpPr/>
          <p:nvPr/>
        </p:nvSpPr>
        <p:spPr>
          <a:xfrm>
            <a:off x="7570800" y="1184400"/>
            <a:ext cx="13176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2T13:32:03Z</dcterms:created>
  <dc:creator>Stephen L. Cotton</dc:creator>
  <dc:description/>
  <dc:language>en-US</dc:language>
  <cp:lastModifiedBy>rrita</cp:lastModifiedBy>
  <dcterms:modified xsi:type="dcterms:W3CDTF">2009-09-15T10:56:05Z</dcterms:modified>
  <cp:revision>106</cp:revision>
  <dc:subject/>
  <dc:title>Chapter 3 Scientific Measurement</dc:title>
</cp:coreProperties>
</file>